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CD2-1A4F-4850-A3E8-4F030037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0FA-9680-4684-A65E-EF366722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0C4-28E3-41E6-A266-98BCA423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4ED-5614-49DB-B22A-E775A68A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E304-0632-4C05-B385-E4B7C563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C0F6-0274-407A-AD90-19DDFA34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1209-660B-46DE-9FD9-789F1E6E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868B-4C89-47A9-99B7-09E6774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D21F-0DD3-4420-91A3-4D4079B7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82C6-F67B-43BF-9163-F593D179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F06-ADE5-4E0E-9953-EDADBED3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9BD-8B92-46E0-848D-3C3A02DA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963A-3322-4F4E-B9FA-15F5663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11A2-F343-42A8-99E5-7B6FCFC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9389-1C2D-4CDF-A23F-E8F2729F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029B-9E43-4313-8644-5BABFE61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78CD-51F8-4DC6-87E1-F7736F54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EC0-B0E7-44DA-9FD4-B29769BC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4E2-91DD-47DD-A870-E6718247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455-38F9-44C2-8DF3-C58B1481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FBF-82A1-4E53-B1C5-6A01F180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C28-9409-4185-9CD6-ED46120C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34D-4B2B-4C91-AAF9-6D1004CD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C84-EB97-408F-AF75-E078A23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C33-3732-4544-8F94-ECE9037633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FCCD-8A24-420F-BAC1-6C71E3EDD9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66"/>
                </a:solidFill>
                <a:latin typeface="Arial Black"/>
              </a:rPr>
              <a:t>Mental Health Needs in the Children Detention School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obhan Young  (smyoung@justice.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 Nov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YJS_Logo_Small_Title"/>
          <p:cNvPicPr/>
          <p:nvPr/>
        </p:nvPicPr>
        <p:blipFill>
          <a:blip r:embed="rId1"/>
          <a:stretch/>
        </p:blipFill>
        <p:spPr>
          <a:xfrm>
            <a:off x="3492360" y="3429000"/>
            <a:ext cx="1808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erview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n Mental Health Probl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w Mental Health Problems are Addres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 on Admission (Non-Clinic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to Specialist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ages to CAMH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to Program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Staff Think Should Happ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terviews: Main Mental Health Problems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sonality Disor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duct Disord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sycho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terviews: How Mental Health Problems are Addressed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n Admission (Non-Clinic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profile young offend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doesn’t necessarily inform about mental healt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Specialist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use the psychiatrist more but that’s usually for the court, it doesn’t feed into anything practical he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have two in at the moment who are not here for assessment but both have mental health difficulties.  That’s where we’re running into difficulties – the only option is to call the 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young person presenting to an external person coming in is very different to how they present to someone who is here the whole time.  A lot of reports are that the young person presented very well.  Well, he did for an hou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erviews: How Mental Health Problems are Address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kages to CAM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y’re gone by the time the young person gets her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 lot of time they are seen when they are younger but by the time they get here, all those bridges are burne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 dumping ground for all the special care uni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minute they enter juvenile justice the case is closed with the HSE.  Everything else shuts down and off you g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erviews: How Mental Health Problems are Address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cess to Intervention / Evidence Based Programm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re are programmes but not specifically for mental health, they’re more generic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e did have a drugs counsellor on campus, he was staff but he left.  Now that would have to be bought i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 mean surely when you get into that kind of important place with a young person that you would be able to offer a lo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terviews: What Staff Think Should Happen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ite Mental Health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y don’t get the whole pictur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thering informa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meone qualified on campu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ut Instinct” … “Winging 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ery effective… with the right guidanc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metimes when it’s all mixed up behaviours, what you actually need is someone to give clarity so people can understan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at’s going to change?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Interviews: What Staff Think Should Happen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corporates some aspect of psychiatric training but it would be a small par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echniques on how to talk to childre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me type of basic training would be valuab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veryone knows that unless you are properly informed or trained you can sometimes do more damage than good with these kid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ommenda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young people should be screened for the presence of mental health problems on admiss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young people identified as having mental health problems should have access to evidence based assessment and intervention with a clinical tea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 staff should have training in basic mental health awareness and positive mental health promo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mmission to Inquire into Child Abuse Report (2009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fice of the Minister for Children and Youth Affairs (2009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on 12 of the Ryan Implementation Plan states that the HSE will develop a national specialist team for children in special care and detention in consultation with the Irish Youth Justice Ser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xample of Mode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14800" y="1773360"/>
            <a:ext cx="6693120" cy="3191760"/>
            <a:chOff x="1414800" y="1773360"/>
            <a:chExt cx="6693120" cy="3191760"/>
          </a:xfrm>
        </p:grpSpPr>
        <p:sp>
          <p:nvSpPr>
            <p:cNvPr id="129" name=""/>
            <p:cNvSpPr/>
            <p:nvPr/>
          </p:nvSpPr>
          <p:spPr>
            <a:xfrm>
              <a:off x="1414800" y="2482200"/>
              <a:ext cx="1441080" cy="88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000000"/>
                  </a:solidFill>
                  <a:latin typeface="Arial"/>
                </a:rPr>
                <a:t>Forensic CAMH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83120" y="2127240"/>
              <a:ext cx="1441080" cy="44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National Manage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2440" y="3015000"/>
              <a:ext cx="987840" cy="2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Oberstown 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76920" y="4433760"/>
              <a:ext cx="78228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St Patrick's Institu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15800" y="3280680"/>
              <a:ext cx="7203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Dublin 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48360" y="3280680"/>
              <a:ext cx="82368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Limerick 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87560" y="3280680"/>
              <a:ext cx="72036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Cork 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0560" y="2837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368680" y="2482200"/>
              <a:ext cx="617400" cy="7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501240" y="2571120"/>
              <a:ext cx="10188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19000" y="2482200"/>
              <a:ext cx="411840" cy="7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26880" y="301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88440" y="2393640"/>
              <a:ext cx="1852920" cy="62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19120" y="1773360"/>
              <a:ext cx="3088440" cy="2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Arial"/>
                </a:rPr>
                <a:t>National Assessment, Consultation and Therapy Service</a:t>
              </a:r>
              <a:r>
                <a:rPr b="1" lang="en-I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856240" y="1950480"/>
              <a:ext cx="2202840" cy="620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30840" y="31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71520" y="3002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8800" y="301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56240" y="3015000"/>
              <a:ext cx="51480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8840" y="3369240"/>
              <a:ext cx="308520" cy="106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vervie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view of mental health nee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ple of proposed model for te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olicy, Legislative and Research Framework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ted Nations Convention on the Rights of the Chil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genda for Children’s Serv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ational Youth Justice Strate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ental Health Service Provision within the CD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Oberstown Boys’ School (OB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Oberstown Girls’ School (OG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rinity House School (TH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view included the Finglas Child and Adolescent Centre (FC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Questi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evious involvement with Child and Adolescent Mental Health Services (CAMH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creening/Non-Clinical Assess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ccess to Specialist Mental Health Assessment and Intervention during Deten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kages with CAMHS in Preparation for Dischar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ethodolog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le Re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ff Interview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403280" y="1844640"/>
          <a:ext cx="6121440" cy="4156200"/>
        </p:xfrm>
        <a:graphic>
          <a:graphicData uri="http://schemas.openxmlformats.org/drawingml/2006/table">
            <a:tbl>
              <a:tblPr/>
              <a:tblGrid>
                <a:gridCol w="2766960"/>
                <a:gridCol w="3354480"/>
              </a:tblGrid>
              <a:tr h="112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hoo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Files Review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G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CAC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0" y="44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umber of Files Review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File Review: How Mental Health Needs are Addressed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1905120"/>
          <a:ext cx="7696080" cy="3186000"/>
        </p:xfrm>
        <a:graphic>
          <a:graphicData uri="http://schemas.openxmlformats.org/drawingml/2006/table">
            <a:tbl>
              <a:tblPr/>
              <a:tblGrid>
                <a:gridCol w="925560"/>
                <a:gridCol w="1081080"/>
                <a:gridCol w="1441440"/>
                <a:gridCol w="1439640"/>
                <a:gridCol w="1657440"/>
                <a:gridCol w="1150920"/>
              </a:tblGrid>
              <a:tr h="13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n Ad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es (i.e. mental heal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17920" y="588960"/>
            <a:ext cx="75844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ile Review: Other Them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989000"/>
          <a:ext cx="7704000" cy="4154760"/>
        </p:xfrm>
        <a:graphic>
          <a:graphicData uri="http://schemas.openxmlformats.org/drawingml/2006/table">
            <a:tbl>
              <a:tblPr/>
              <a:tblGrid>
                <a:gridCol w="1539720"/>
                <a:gridCol w="1541520"/>
                <a:gridCol w="1541520"/>
                <a:gridCol w="1541520"/>
                <a:gridCol w="15397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of Intelle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of Specific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 of Substance Mis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 of Significant 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31:04Z</dcterms:created>
  <dc:creator>Siobhan M. Young絍죐_x0013_걌絍</dc:creator>
  <dc:description/>
  <dc:language>en-US</dc:language>
  <cp:lastModifiedBy>Danelle</cp:lastModifiedBy>
  <dcterms:modified xsi:type="dcterms:W3CDTF">2010-11-16T13:35:23Z</dcterms:modified>
  <cp:revision>16</cp:revision>
  <dc:subject/>
  <dc:title>Case Study 1</dc:title>
</cp:coreProperties>
</file>