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8BBA-01C8-4DF7-91EE-C3644C6A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6E05-0BE2-4220-B2B9-C62B2FA4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FF35-9FF6-4720-B8C1-E44E6999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A83-5538-4DBA-B473-5A822FCD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A64C-71C2-4107-99D4-70B08F5A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16D4-55C9-44B4-9586-C2658A9D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9581-728F-472D-B5C4-E1778D13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E823-B561-4940-95E2-6FE1B16F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712A-D235-4A16-A492-22C96C53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46D8-F713-4D04-BE7D-0F8B6F92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F4AB-60AA-40C4-B211-97CA3B4A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1D67-88E6-4E1F-A707-8A3D7B92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E8B0-4421-4C7B-A9F3-5DA336AF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69BD-0630-4421-8213-C82D065F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4E47-8D9B-4EC2-B91C-8017F5AA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04FB-DDB4-4A1A-9F28-D67F325E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9975-412D-4BA5-9B65-529723AA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D0A-FE6B-4DCA-84FE-D8B0D689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CB84-BEE4-47C2-B760-E80C9557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FFB4-681B-40B6-8F74-626EF0AD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7938-6958-4A02-9F18-22352813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0FC-FEDD-4C22-8426-A6DA0062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8D04-6461-4B07-963A-2532122A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1539-2230-4D5C-88B4-5C2AA24C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09D2-347F-475F-9DD9-1C15DD412D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7C6C-63C0-4D64-AB85-71252590A5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66"/>
                </a:solidFill>
                <a:latin typeface="Arial Black"/>
              </a:rPr>
              <a:t>Mental Health Needs in the Children Detention Schools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obhan Young  (smyoung@justice.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 Nov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IYJS_Logo_Small_Title"/>
          <p:cNvPicPr/>
          <p:nvPr/>
        </p:nvPicPr>
        <p:blipFill>
          <a:blip r:embed="rId1"/>
          <a:stretch/>
        </p:blipFill>
        <p:spPr>
          <a:xfrm>
            <a:off x="3492360" y="3429000"/>
            <a:ext cx="1808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terview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in Mental Health Proble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 Mental Health Problems are Address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ssment on Admission (Non-Clinic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to Specialist 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ages to CAMH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to Program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Staff Think Should Happ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Interviews: Main Mental Health Problems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DH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chizophreni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rsonality Disor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duct Disor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sychos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Interviews: How Mental Health Problems are Addressed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ment on Admission (Non-Clinic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profile young offend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doesn’t necessarily inform about mental healt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to Specialist Assess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use the psychiatrist more but that’s usually for the court, it doesn’t feed into anything practical he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have two in at the moment who are not here for assessment but both have mental health difficulties.  That’s where we’re running into difficulties – the only option is to call the G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young person presenting to an external person coming in is very different to how they present to someone who is here the whole time.  A lot of reports are that the young person presented very well.  Well, he did for an hou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terviews: How Mental Health Problems are Addresse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nkages to CAM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ey’re gone by the time the young person gets her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 lot of time they are seen when they are younger but by the time they get here, all those bridges are burned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 dumping ground for all the special care unit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e minute they enter juvenile justice the case is closed with the HSE.  Everything else shuts down and off you g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terviews: How Mental Health Problems are Addresse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ccess to Intervention / Evidence Based Programm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re are programmes but not specifically for mental health, they’re more generic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e did have a drugs counsellor on campus, he was staff but he left.  Now that would have to be bought i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 mean surely when you get into that kind of important place with a young person that you would be able to offer a lo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Interviews: What Staff Think Should Happen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site Mental Health Professi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ey don’t get the whole pictur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athering informatio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omeone qualified on campu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ut Instinct” … “Winging i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ery effective… with the right guidanc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ometimes when it’s all mixed up behaviours, what you actually need is someone to give clarity so people can understand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’s going to change?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Interviews: What Staff Think Should Happen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ncorporates some aspect of psychiatric training but it would be a small par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echniques on how to talk to childre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ome type of basic training would be valuabl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veryone knows that unless you are properly informed or trained you can sometimes do more damage than good with these kid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ecommendat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-4204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 young people should be screened for the presence of mental health problems on admiss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 young people identified as having mental health problems should have access to evidence based assessment and intervention with a clinical team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 staff should have training in basic mental health awareness and positive mental health promo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mmission to Inquire into Child Abuse Report (2009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ffice of the Minister for Children and Youth Affairs (2009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on 12 of the Ryan Implementation Plan states that the HSE will develop a national specialist team for children in special care and detention in consultation with the Irish Youth Justice Serv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Example of Mode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414800" y="1773360"/>
            <a:ext cx="6693120" cy="3191760"/>
            <a:chOff x="1414800" y="1773360"/>
            <a:chExt cx="6693120" cy="3191760"/>
          </a:xfrm>
        </p:grpSpPr>
        <p:sp>
          <p:nvSpPr>
            <p:cNvPr id="129" name=""/>
            <p:cNvSpPr/>
            <p:nvPr/>
          </p:nvSpPr>
          <p:spPr>
            <a:xfrm>
              <a:off x="1414800" y="2482200"/>
              <a:ext cx="1441080" cy="88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000000"/>
                  </a:solidFill>
                  <a:latin typeface="Arial"/>
                </a:rPr>
                <a:t>Forensic CAMH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83120" y="2127240"/>
              <a:ext cx="1441080" cy="445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National Manage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12440" y="3015000"/>
              <a:ext cx="987840" cy="2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Oberstown Te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76920" y="4433760"/>
              <a:ext cx="782280" cy="53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St Patrick's Instituti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15800" y="3280680"/>
              <a:ext cx="72036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Dublin Te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48360" y="3280680"/>
              <a:ext cx="82368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Limerick Te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87560" y="3280680"/>
              <a:ext cx="72036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Cork Te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50560" y="2837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368680" y="2482200"/>
              <a:ext cx="617400" cy="79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501240" y="2571120"/>
              <a:ext cx="101880" cy="70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19000" y="2482200"/>
              <a:ext cx="411840" cy="79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26880" y="3015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988440" y="2393640"/>
              <a:ext cx="1852920" cy="62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19120" y="1773360"/>
              <a:ext cx="308844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National Assessment, Consultation and Therapy Service</a:t>
              </a:r>
              <a:r>
                <a:rPr b="1" lang="en-I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856240" y="1950480"/>
              <a:ext cx="2202840" cy="620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30840" y="3191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71520" y="3002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88800" y="3015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56240" y="3015000"/>
              <a:ext cx="514800" cy="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38840" y="3369240"/>
              <a:ext cx="308520" cy="106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Overview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view of mental health nee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Te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 of proposed model for tea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Policy, Legislative and Research Framework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ted Nations Convention on the Rights of the Chil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genda for Children’s Servi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ational Youth Justice Strate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ental Health Service Provision within the CD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Oberstown Boys’ School (OB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Oberstown Girls’ School (OG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rinity House School (TH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view included the Finglas Child and Adolescent Centre (FCA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Quest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evious involvement with Child and Adolescent Mental Health Services (CAMH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creening/Non-Clinical Assess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ccess to Specialist Mental Health Assessment and Intervention during Deten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nkages with CAMHS in Preparation for Dischar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ethodology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le Revie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ff Interview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403280" y="1844640"/>
          <a:ext cx="6121440" cy="4156200"/>
        </p:xfrm>
        <a:graphic>
          <a:graphicData uri="http://schemas.openxmlformats.org/drawingml/2006/table">
            <a:tbl>
              <a:tblPr/>
              <a:tblGrid>
                <a:gridCol w="2766960"/>
                <a:gridCol w="3354480"/>
              </a:tblGrid>
              <a:tr h="112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oo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Files Reviewe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G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CAC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0" y="44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Number of Files Reviewe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File Review: How Mental Health Needs are Addressed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1905120"/>
          <a:ext cx="7696080" cy="3186000"/>
        </p:xfrm>
        <a:graphic>
          <a:graphicData uri="http://schemas.openxmlformats.org/drawingml/2006/table">
            <a:tbl>
              <a:tblPr/>
              <a:tblGrid>
                <a:gridCol w="925560"/>
                <a:gridCol w="1081080"/>
                <a:gridCol w="1441440"/>
                <a:gridCol w="1439640"/>
                <a:gridCol w="1657440"/>
                <a:gridCol w="1150920"/>
              </a:tblGrid>
              <a:tr h="13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iou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on Admi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 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es (i.e. mental healt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ile Review: Other Them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55640" y="1989000"/>
          <a:ext cx="7704000" cy="4154760"/>
        </p:xfrm>
        <a:graphic>
          <a:graphicData uri="http://schemas.openxmlformats.org/drawingml/2006/table">
            <a:tbl>
              <a:tblPr/>
              <a:tblGrid>
                <a:gridCol w="1539720"/>
                <a:gridCol w="1541520"/>
                <a:gridCol w="1541520"/>
                <a:gridCol w="1541520"/>
                <a:gridCol w="153972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ce of Intellec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ce of Specific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ence of Substance Mis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ence of Significant 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5:31:04Z</dcterms:created>
  <dc:creator>Siobhan M. Young絍죐_x0013_걌絍</dc:creator>
  <dc:description/>
  <dc:language>en-US</dc:language>
  <cp:lastModifiedBy>Danelle</cp:lastModifiedBy>
  <dcterms:modified xsi:type="dcterms:W3CDTF">2010-11-16T13:35:23Z</dcterms:modified>
  <cp:revision>16</cp:revision>
  <dc:subject/>
  <dc:title>Case Study 1</dc:title>
</cp:coreProperties>
</file>