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B5FD-7EB3-4119-942B-50D95783C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157-F36E-4C8E-9675-800FF091080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less the interest of society otherwise require any child who has committed an offence and accepts responsibility for his /her criminal behaviour shall be considered for admission to a diversion 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8182-3EA2-4DD8-BE6E-55982E566BC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88D-E8C2-4B2C-B7B0-CEEF8ACE5172}" type="slidenum">
              <a:rPr b="0" lang="en-US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687D-ABE0-4D40-AA05-88372EE998F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869-762D-4E69-94C5-C8FB049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6BB-4627-4464-9BF8-A46FD7D5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255-6370-4337-95E0-C20DEE46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7FB-82A3-44D8-9546-553AD493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366E-5705-4FC1-8304-3B92723D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CC9A-85C6-44D9-AE0D-39D301EB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CFF7-261E-4454-80EE-B3F62CE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C129-5603-4945-9D37-66CD4CD3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2187-A69D-493A-8277-B2CD2CC8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C111-9620-41C5-9A96-9BDA240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8AFE-B911-4575-8829-C005675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ACF-5E32-48E9-BB75-EC8E8408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F2F7-F3B1-4311-8A4F-5314E2C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11B6-8610-46FA-9D21-A229961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C6DB-01A9-4374-8C14-3040413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E5B9-7498-4230-BB89-3FA28EAC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EB84-C900-45BF-A752-D5A46BB5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708-A3B6-452B-A776-765BF15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F68-906B-4A16-9B50-F082FAC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5D8-1DDE-4E82-8C09-94B0511B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9FA-CDE0-4594-AF5E-46104653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4B8-9B05-4E0C-8C75-F824F1E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B0D-3D09-4B56-B243-3760BCD9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975-93AD-42C7-9B37-240F8D4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C7B2-9B52-4A36-9253-02DC652575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0B7-0946-4AE8-99F7-B7517BE4222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59644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n Garda Síochá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Restorative Justice within Diversion Programme for Youth Offenders</a:t>
            </a:r>
            <a:br>
              <a:rPr sz="4000"/>
            </a:br>
            <a:br>
              <a:rPr sz="2800"/>
            </a:br>
            <a:br>
              <a:rPr sz="2800"/>
            </a:br>
            <a:br>
              <a:rPr sz="18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ergeant Andy Tuite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CJRD 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Jan 2013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ole of JL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me JLO; in area where child lives explores the options and sets up the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way JLO; chairs the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storative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enue; halls, churches, Garda Station, schools, ho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oom lay out and se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ri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eakout 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fre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arture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Meeting pro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roduction and ground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fender speaks fir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ffenders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ctim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Types of C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c 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obb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ra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ly of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iminal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rgl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800" spc="-1" strike="noStrike">
                <a:solidFill>
                  <a:srgbClr val="ffff00"/>
                </a:solidFill>
                <a:latin typeface="Arial"/>
              </a:rPr>
              <a:t>Distinguishing features of</a:t>
            </a:r>
            <a:br>
              <a:rPr sz="3800"/>
            </a:br>
            <a:r>
              <a:rPr b="0" lang="en-IE" sz="3800" spc="-1" strike="noStrike">
                <a:solidFill>
                  <a:srgbClr val="ffff00"/>
                </a:solidFill>
                <a:latin typeface="Arial"/>
              </a:rPr>
              <a:t> The Garda Model</a:t>
            </a:r>
            <a:endParaRPr b="0" lang="en-US" sz="3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Protection from double jeopardy.  The decision has already been made to ca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Confidentiality of procee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Specially trained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Intervention occurs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High level of training – restorative justice facilitator skills, mediation skills and victim aware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Monitoring committee appoi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Victim needs given consideration as well as offe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5600" indent="-3456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Offender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Evaluation Restorative Justice Programm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lot Programme 68 cases 1999-Aug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 evaluation of 147 cases from May 2002-December 2003 (O’Dwy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igures are in line with analysis carried out by Paul Mc Cold and broadly in line with figures extrapolated worldwi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ver 93% victim satisf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.L.O. very positive – better 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vestigating Garda – very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ild who offended - Not an easy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-offending rates 1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arda Model had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1856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Restorative Justice within the Diversion Programme for Young Offenders</a:t>
            </a:r>
            <a:br>
              <a:rPr sz="36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ergeant Andy Tuite</a:t>
            </a:r>
            <a:br>
              <a:rPr sz="2000"/>
            </a:b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Garda Office for Children and Youth Affair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000" y="907560"/>
            <a:ext cx="813564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History of An Garda Síochán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Community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Police drawn from that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relation to children – Police officers decided to caution for offences as far back as 1963 (using common law pow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mment by first Commissioner of An Garda Síochán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ichael Sta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e will Police not by the force of arms but by the will of the peop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hildren Act 2001</a:t>
            </a:r>
            <a:br>
              <a:rPr sz="40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7561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001 Act placed Diversion Programme on statutory ba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reated the position of Director of Diversion Programme (Garda Superinten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uvenile Liaison Officer (J.L.O.) now has statutory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troduced the concept of Restorative Justice into the Juvenile Justic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storative Cautions (S26)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storative Conference (S29)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tion was now a requirement to administer a formal ca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Diversion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Diversion Programme is a means of dealing with children who offend in a manner other than by way of prosecution and is designed to divert the child from the courts and away from further offe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18 - Every child shall be considered for admission to a diversion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iteria for admission to Diversion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accept responsibility for behavio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10 yrs and under 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they must consent to being cau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Children Act, 2001</a:t>
            </a:r>
            <a:br>
              <a:rPr sz="3900"/>
            </a:br>
            <a:r>
              <a:rPr b="0" lang="en-US" sz="3900" spc="-1" strike="noStrike">
                <a:solidFill>
                  <a:srgbClr val="ffff00"/>
                </a:solidFill>
                <a:latin typeface="Arial"/>
              </a:rPr>
              <a:t> Training Requirement</a:t>
            </a:r>
            <a:endParaRPr b="0" lang="en-US" sz="39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storative Justi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training to facilitate conferences. Not mandatory but required to allow for restorative interven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2000" indent="-3420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Training mandatory under Section 25 of the act so that JLO can administer a formal ca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2000" indent="-3420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icti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areness:  Allowing for better understanding of victims need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3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3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ining outco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IRP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a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Justice Training – to use scripted format to facilitate restorative confe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34920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diation - training allowed for intervention between people to resolve a dispute or bring about reconciliation use of proper language and listening skil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storative Ev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mal Caution with victim invited (S2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Director may invite any victim whose views in relation to the child’s criminal behaviour have been considered to be present at the administration of a formal ca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arda Conference (S29 )-Welfare focu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An Garda Síochá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Restorative Proces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ence detected and referral sent to Garda Office for Children and Youth Affai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rector/JLO  recommends “explore” restor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irst person to consider/discuss with is the off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positive discuss with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f victim not present victims perspective represented by surrogate such as victim support, family member, Garda or let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ctimless” crimes drugs, public order, road traf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en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urther meetings with offender/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17:01Z</dcterms:created>
  <dc:creator>..</dc:creator>
  <dc:description/>
  <dc:language>en-US</dc:language>
  <cp:lastModifiedBy>Danelle Hannan</cp:lastModifiedBy>
  <dcterms:modified xsi:type="dcterms:W3CDTF">2013-01-24T14:23:59Z</dcterms:modified>
  <cp:revision>25</cp:revision>
  <dc:subject/>
  <dc:title>RESTORATIVE  JUSTICE &amp; THE GARDA JUVENILE DIVERSION PROGRAMME</dc:title>
</cp:coreProperties>
</file>