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F90-FD4E-4822-9C80-4146B7F7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9D5-C3DF-4A18-9327-75DD8B5B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5E86-5382-4932-AE7F-8206FBC2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17A-E82A-4C4B-90CB-987C87F8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3FA-CBF0-489E-B4A5-012095D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3C5-C0CB-48F7-89DC-AD86A61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5A2-61F6-45F9-A7C5-CE519A80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3EC-44A5-4DFA-82AC-50788800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4B2-0F66-4259-985F-27B81AB3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4A94-3B0A-44A2-A196-A6514052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F11-37E8-4FC5-88D1-E1C028B3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F66-EB75-4A03-8928-7C521737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9852-D9EF-43D1-A601-A23835B0E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rison Adult Literacy Surv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Morgan and Kett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alibri"/>
              </a:rPr>
              <a:t>Levels of Literacy and the International Adult Literacy Surve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evels of literacy (Morgan, Hickey and Kellaghan, 1997)…not illite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25% at lowest level…similar to UK.. Level 1 and Aspirin question..Level 4: Two things to do for an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actors associated with low levels of literacy: sporting events, community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articipation in adult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ults from other countries…many people at lower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mains of literacy: prose, document, quantita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quirement of scoring  (Levels)…and below Level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Questionnaire on experiences at school and age of leaving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dministered by prison staff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ults: Pre-level 1 2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evel 1: 31% Level 2: 1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evel 3 14% Level 4/5 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ew gender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ge differences: Finding in general population: contrast with prison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ge 32 and older quite similar to general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Result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Violent and Property offences: Lowest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ug offences and sexual offences: higher Levels (beware definition and excep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chool leaving: before statutory age…and poor atten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oor engagement with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lems especially with mat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Educational failure and prison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ept of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National literacy strategy…social and emotional dimension as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8:59:55Z</dcterms:created>
  <dc:creator>Joe Bloggs</dc:creator>
  <dc:description/>
  <dc:language>en-US</dc:language>
  <cp:lastModifiedBy>Danelle</cp:lastModifiedBy>
  <dcterms:modified xsi:type="dcterms:W3CDTF">2011-10-06T13:14:34Z</dcterms:modified>
  <cp:revision>4</cp:revision>
  <dc:subject/>
  <dc:title>Prison Adult Literacy Survey</dc:title>
</cp:coreProperties>
</file>