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955-DF36-476A-ACCF-37763499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BBE-FD6D-4887-8EC0-C8613B6B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FC0-1C1B-4321-923D-B5F66AFF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3BF-F722-4F98-9A8E-3EFCA51B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6B95-E03E-404C-A6EE-DC02B638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46F5-62F2-4977-BB11-915A49DC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330-7311-404B-9710-0FE8A0DB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2926-5D7C-4730-8D9A-C37B8296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CBB-0BB4-4C34-AE8F-5A7F2C40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210-1DCF-4F06-B44A-80727070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8FD-D31A-4EA0-B46F-12D129CB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9C8-FCCB-4F94-BEDC-DA3B7FC9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E282-96F4-4703-8419-A9B110D2D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rison Adult Literacy Surv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98989"/>
                </a:solidFill>
                <a:latin typeface="Calibri"/>
              </a:rPr>
              <a:t>Morgan and Kett (20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Levels of Literacy and the International Adult Literacy Surve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evels of literacy (Morgan, Hickey and Kellaghan, 1997)…not illiterac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25% at lowest level…similar to UK.. Level 1 and Aspirin question..Level 4: Two things to do for an int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actors associated with low levels of literacy: sporting events, community activ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articipation in adult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sults from other countries…many people at lower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omains of literacy: prose, document, quantita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quirement of scoring  (Levels)…and below Level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Questionnaire on experiences at school and age of leaving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dministered by prison staff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Resul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sults: Pre-level 1 2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evel 1: 31% Level 2: 1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evel 3 14% Level 4/5 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ew gender dif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ge differences: Finding in general population: contrast with prison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ge 32 and older quite similar to general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Result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Violent and Property offences: Lowest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rug offences and sexual offences: higher Levels (beware definition and excep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chool leaving: before statutory age…and poor attend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oor engagement with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roblems especially with math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Educational failure and prison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cept of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National literacy strategy…social and emotional dimension as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8:59:55Z</dcterms:created>
  <dc:creator>Joe Bloggs</dc:creator>
  <dc:description/>
  <dc:language>en-US</dc:language>
  <cp:lastModifiedBy>Danelle</cp:lastModifiedBy>
  <dcterms:modified xsi:type="dcterms:W3CDTF">2011-10-06T13:14:34Z</dcterms:modified>
  <cp:revision>4</cp:revision>
  <dc:subject/>
  <dc:title>Prison Adult Literacy Survey</dc:title>
</cp:coreProperties>
</file>