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BA5DD-71C8-4C60-978B-46C8CEB7A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2E00E-2C81-4208-8FF4-E00A8D2BC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DEC7A-0961-4640-95DA-B0DA54D5C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07AED-C5BC-490C-A09E-58B6DEF06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5BA5A-4015-4C4B-8DFA-83F41F0A2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D65D6-4310-4E63-BF1D-6B05A830C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345BD-72B5-4277-9FB3-47FA43EE6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E680C-24BC-46B0-AD8A-AD5FAC7C5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D4EB7-16BC-4DE9-8520-8FFBBCD8B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B30C6-4A1F-49F4-88E4-031152150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A529E-E7CD-4F8F-B0ED-207BC90F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1EFED-7B48-4970-BE01-A4D192EFF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391CC-F583-4B43-A22F-B23488B0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0F7F3-61B6-419B-913B-5EE8CB7E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850CB-A608-448A-82DF-454534A30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9459C-3524-40A0-9F5E-D1BB1943B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E6AB4-883E-49E6-96BE-1473F5D48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D77C1-0544-44AB-9522-AB375D4C8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5C102-06B7-442A-B1A3-1AB7D82B2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0D051-837E-4012-8403-9F663E8F0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DBBE3-ACC7-48FD-91D1-032379172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A2F0F-D1E7-4CAD-BF6F-24E9784B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0319F-1C28-4840-B98E-28E587BB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83DFB-41C7-4303-976C-6177FE68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7FB38-60B8-4C19-BFF4-F432E3BC52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0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4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0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C945F-D583-4A2C-B3E9-CA68F44287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6000" spc="-1" strike="noStrike">
                <a:solidFill>
                  <a:srgbClr val="e5e5ff"/>
                </a:solidFill>
                <a:latin typeface="Garamond"/>
              </a:rPr>
              <a:t>National Commission on Restorative Justic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Presentation to ACJRD on Commission Repor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April 20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Garamond"/>
              </a:rPr>
              <a:t>Research Based Evid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Evaluations of RJ schem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particip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satisfa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successful outco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Meta analysis stud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Shapland, Sherman, Strang, Umbreit, Campbell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O’Dwyer, O’Mahony, Pelikan, Trenczek, Bonta etc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e5e5ff"/>
                </a:solidFill>
                <a:latin typeface="Garamond"/>
              </a:rPr>
              <a:t>Research Based Evidence - Victim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NIYC 2006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  69% particip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81% offer forgivene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UK 2004 - 2008     very positive re experience, 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felt offenders had addressed harm do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NZ 2005         87% victims felt better after FG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NSW 1999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80% participate, 89% agreed pla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Austria 2002     RJ experience reduced harm fel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Norway 2005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 high satisfaction with proce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Garamond"/>
              </a:rPr>
              <a:t>Research Based Evidence - Offender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Northern Ireland Youth Conferences 200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92% felt RJ helped them realise harm do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97% accepted responsibilty for off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71% nervous at start of confer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98% able to engage fully in discu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98% believed they were listened t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93% felt conference plan fai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Garamond"/>
              </a:rPr>
              <a:t>Research Based Evidence - issu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Victim concern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- RJ soft optio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- revictimisatio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- participatio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Offender issu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-    protection of righ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-    voluntary participation – informed cons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-    time during process to refle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Garamond"/>
              </a:rPr>
              <a:t>Research Based Evidence – Recidivism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NIYC 2008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    38% reconvicted 1 yr post RJ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73% reconvicted 1 yr post pris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47% reconvicted 1 yr post oth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UK 2008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statistically significant fewer re-offen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Meta study 2007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36 studies re-offending lower post RJ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Meta study 2008      39 studies re-offending lower post RJ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Nenagh 1999 – 2007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26% re-offended post RJ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Tallaght 2005 – 2006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14% re-offended post RJ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ffffff"/>
                </a:solidFill>
                <a:latin typeface="Garamond"/>
              </a:rPr>
              <a:t>O’Donnell et al 2008</a:t>
            </a:r>
            <a:r>
              <a:rPr b="0" i="1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IE" sz="2400" spc="-1" strike="noStrike">
                <a:solidFill>
                  <a:srgbClr val="ffffff"/>
                </a:solidFill>
                <a:latin typeface="Garamond"/>
              </a:rPr>
              <a:t>     39% prisoners re-imprisoned 2yrs post releas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e5e5ff"/>
                </a:solidFill>
                <a:latin typeface="Garamond"/>
              </a:rPr>
              <a:t>Research Based Evidence – Alternative to Pris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No suitable research evid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More research focus on re-offending recor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RJ not dependent on being a prison alternativ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RJ considerable value to victim and offend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Research warranted on use as a prison  alternati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Significant growth in use of imprisonment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Garamond"/>
              </a:rPr>
              <a:t>Research Based Evidence - Co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57200" y="1600200"/>
          <a:ext cx="8229600" cy="48150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stimated Cost per case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ferred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egun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mpleted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UK 2008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J Pilots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£</a:t>
                      </a:r>
                      <a:r>
                        <a:rPr b="0" lang="en-IE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48</a:t>
                      </a:r>
                      <a:r>
                        <a:rPr b="0" lang="en-IE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- £</a:t>
                      </a:r>
                      <a:r>
                        <a:rPr b="0" lang="en-IE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,458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£</a:t>
                      </a:r>
                      <a:r>
                        <a:rPr b="0" lang="en-IE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87 - £2,333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£</a:t>
                      </a:r>
                      <a:r>
                        <a:rPr b="0" lang="en-IE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,261- £4,666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IYCS 2008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nferences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£1,000 - £1,500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enagh 2007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€</a:t>
                      </a:r>
                      <a:r>
                        <a:rPr b="0" lang="en-IE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,500 - €6,400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allaght 2007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€</a:t>
                      </a:r>
                      <a:r>
                        <a:rPr b="0" lang="en-IE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,250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e5e5ff"/>
                </a:solidFill>
                <a:latin typeface="Garamond"/>
              </a:rPr>
              <a:t>Research Based Conference - Cost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2007 Costs of Other Sanctions in Irelan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Prison Space 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€97,70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Probation Order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 €8,20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Probation Supervision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 €5,53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Community Service Order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 €2,02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e5e5ff"/>
                </a:solidFill>
                <a:latin typeface="Garamond"/>
              </a:rPr>
              <a:t>Researched Based Evidence - Cost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Potential Savings from use of RJ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court process costs – court time and legal cos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reduced custodial costs – prison space nee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reduced re-offending costs – victim ( health, absence ) garda, court, legal, and sanction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reduced victim costs – reparation, health and work-absence etc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IE" sz="2400" spc="-1" strike="noStrike">
                <a:solidFill>
                  <a:srgbClr val="ffffff"/>
                </a:solidFill>
                <a:latin typeface="Garamond"/>
              </a:rPr>
              <a:t>Sherman and Strang ( 2007 )     Restorative Justice: The Eviden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e5e5ff"/>
                </a:solidFill>
                <a:latin typeface="Garamond"/>
              </a:rPr>
              <a:t>Research Based Evidence – Public Interest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Public Interest      </a:t>
            </a:r>
            <a:r>
              <a:rPr b="0" i="1" lang="en-IE" sz="2800" spc="-1" strike="noStrike">
                <a:solidFill>
                  <a:srgbClr val="ffffff"/>
                </a:solidFill>
                <a:latin typeface="Garamond"/>
              </a:rPr>
              <a:t>State (Stanbridge) v Mahon 1979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en-IE" sz="3200" spc="-1" strike="noStrike" baseline="30000">
                <a:solidFill>
                  <a:srgbClr val="ffffff"/>
                </a:solidFill>
                <a:latin typeface="Garamond"/>
              </a:rPr>
              <a:t>st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 consideration in determining a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is served not just by punishing offender 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providing a deterrent to future offending but also by </a:t>
            </a:r>
            <a:r>
              <a:rPr b="1" lang="en-IE" sz="3200" spc="-1" strike="noStrike">
                <a:solidFill>
                  <a:srgbClr val="ffffff"/>
                </a:solidFill>
                <a:latin typeface="Garamond"/>
              </a:rPr>
              <a:t>offering an inducement/opportunity to refor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RJ also in public interest  where it is more effective and efficient than other sanc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Garamond"/>
              </a:rPr>
              <a:t>Terms of Refer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To consider the application of the concept of restorative justice with regard to persons brought before the courts on criminal charges an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To make recommendations as to its wider application in this jurisdiction ( including in the context of community courts 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e5e5ff"/>
                </a:solidFill>
                <a:latin typeface="Garamond"/>
              </a:rPr>
              <a:t>Research Based Evidence – Suitability of Offenc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Diversionary and Court based RJ exclud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The most serious crimes ( murder rape etc. 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NSW excludes serious violent offen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NZ excludes offences involving 2yrs pris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Austria excludes offences involving 5yrs prison +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Garamond"/>
              </a:rPr>
              <a:t>Seek View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Submissions invit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Meetings and visit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Conferences, seminars etc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Regional Workshop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Advisory For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Garamond"/>
              </a:rPr>
              <a:t>Recommendations of JOC Report on RJ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 u="sng">
                <a:solidFill>
                  <a:srgbClr val="ffffff"/>
                </a:solidFill>
                <a:uFillTx/>
                <a:latin typeface="Garamond"/>
              </a:rPr>
              <a:t>Commission / JOC recommendations consist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Wider use of and funding for RJ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More support for existing Youth and Adult RJ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Legislate for Adult RJ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Cross sectoral group to oversee strategy and expan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Raise judicial awareness of RJ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RJ services should link with victim interes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Garamond"/>
              </a:rPr>
              <a:t>Which RJ Models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Cost effectivene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             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- Noted costs per case abroad €625 to £1,500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- Noted pilot costs here €3,250 to €6,400 per cas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- Noted high costs here of other sanc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- Noted under use of pilot capaci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- Noted participant satisfaction and benefit level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- Noted lower re-offending following RJ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Appropria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- Noted consistency with Common Law process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- Noted potential as alternative to pris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Garamond"/>
              </a:rPr>
              <a:t>Need for Statutory Basis for RJ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Review pilot experience without legis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Review RJ application under Children Act, 200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Review RJ application abroa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Needs met by legis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- Provides certainty and legitimac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- Provides legal incentiv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- Provides protection of legal righ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- Offers guidance and structu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- Provides for standards, resources and oversigh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e5e5ff"/>
                </a:solidFill>
                <a:latin typeface="Garamond"/>
              </a:rPr>
              <a:t>Roles of Courts Criminal Justice Agencies etc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800" spc="-1" strike="noStrike">
                <a:solidFill>
                  <a:srgbClr val="ffffff"/>
                </a:solidFill>
                <a:latin typeface="Garamond"/>
              </a:rPr>
              <a:t>Courts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referral and approv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800" spc="-1" strike="noStrike">
                <a:solidFill>
                  <a:srgbClr val="ffffff"/>
                </a:solidFill>
                <a:latin typeface="Garamond"/>
              </a:rPr>
              <a:t>Probation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IE" sz="2800" spc="-1" strike="noStrike">
                <a:solidFill>
                  <a:srgbClr val="ffffff"/>
                </a:solidFill>
                <a:latin typeface="Garamond"/>
              </a:rPr>
              <a:t>Service</a:t>
            </a:r>
            <a:r>
              <a:rPr b="0" i="1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provision of RJ servi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800" spc="-1" strike="noStrike">
                <a:solidFill>
                  <a:srgbClr val="ffffff"/>
                </a:solidFill>
                <a:latin typeface="Garamond"/>
              </a:rPr>
              <a:t>Garda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  support / participate as appropri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800" spc="-1" strike="noStrike">
                <a:solidFill>
                  <a:srgbClr val="ffffff"/>
                </a:solidFill>
                <a:latin typeface="Garamond"/>
              </a:rPr>
              <a:t>Community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  participate and follow up suppor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800" spc="-1" strike="noStrike">
                <a:solidFill>
                  <a:srgbClr val="ffffff"/>
                </a:solidFill>
                <a:latin typeface="Garamond"/>
              </a:rPr>
              <a:t>National Committee        - 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advisory to Minist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IE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i="1" lang="en-IE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review standar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- oversee co-ordinated strateg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IE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i="1" lang="en-IE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propose wider application steps</a:t>
            </a:r>
            <a:r>
              <a:rPr b="0" i="1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Garamond"/>
              </a:rPr>
              <a:t>Estimate offender throughput and cost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Throughput targ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5,000 – 10,000 court referrals (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75%ORP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25%VOM/RC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3,600 – 7,200 RJ outcomes (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80%ORP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50%VOM/RC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Cos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Additional 6 pilots recommend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to help optimise capac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to broaden experience in delivery and standar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to enhance costing of national provi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e5e5ff"/>
                </a:solidFill>
                <a:latin typeface="Garamond"/>
              </a:rPr>
              <a:t>Scale of Diversion from Custodial Sentences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Projected</a:t>
            </a:r>
            <a:r>
              <a:rPr b="0" i="1" lang="en-IE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Scenario</a:t>
            </a:r>
            <a:r>
              <a:rPr b="0" i="1" lang="en-IE" sz="3200" spc="-1" strike="noStrike">
                <a:solidFill>
                  <a:srgbClr val="ffffff"/>
                </a:solidFill>
                <a:latin typeface="Garamond"/>
              </a:rPr>
              <a:t> (draws on 2007 dat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5,800 committals sentenced to &lt;3y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assume 5% to 10% referred to RJ = 290 – 58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assume 72.5% referrals succeed = 210 – 42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assume sentence duration per 2007 patter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210 – 420 committals equivalent to 42 – 85 prison spaces p.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associated savings potential = €4.1m to €8.3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e5e5ff"/>
                </a:solidFill>
                <a:latin typeface="Garamond"/>
              </a:rPr>
              <a:t>National Commission on Restorative Justic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Presentation to ACJR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cc00"/>
                </a:solidFill>
                <a:latin typeface="Garamond"/>
              </a:rPr>
              <a:t>April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IE" sz="3200" spc="-1" strike="noStrike">
                <a:solidFill>
                  <a:srgbClr val="ffcc00"/>
                </a:solidFill>
                <a:latin typeface="Garamond"/>
              </a:rPr>
              <a:t>20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Garamond"/>
              </a:rPr>
              <a:t>Terms of Reference detai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Review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existing Irish models of RJ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contemporary RJ developments abroa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research based evidence and evaluation of different RJ models vs other court disposals re: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- impact on Victims and Offen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- as an alternative to imprison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- cost and public interest an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- range of offences for which suitable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Garamond"/>
              </a:rPr>
              <a:t>More Details of Ter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Seek views of relevant bodies, interests et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Consider recommendations of Joint Oireachtas Report on RJ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Consider whether RJ models should be developed on national scale and if so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- which models appropriate/ cost effective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- is legislation needed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- what are roles of courts, probation service et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- estimate case throughput, cost and diversion from               custodial senten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Garamond"/>
              </a:rPr>
              <a:t>Understanding ter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concept of restorative justic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before the courts on criminal charge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wider applicatio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community courts context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Garamond"/>
              </a:rPr>
              <a:t>Review Irish RJ Mode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RJ – </a:t>
            </a:r>
            <a:r>
              <a:rPr b="1" lang="en-IE" sz="3200" spc="-1" strike="noStrike">
                <a:solidFill>
                  <a:srgbClr val="ffffff"/>
                </a:solidFill>
                <a:latin typeface="Garamond"/>
              </a:rPr>
              <a:t>Youth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IE" sz="3200" spc="-1" strike="noStrike">
                <a:solidFill>
                  <a:srgbClr val="ffffff"/>
                </a:solidFill>
                <a:latin typeface="Garamond"/>
              </a:rPr>
              <a:t>Justice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 - Children Act, 200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Garda Juvenile Diversion Programme 2007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IE" sz="2800" spc="-1" strike="noStrike">
                <a:solidFill>
                  <a:srgbClr val="ffffff"/>
                </a:solidFill>
                <a:latin typeface="Garamond"/>
              </a:rPr>
              <a:t>RJ events 378, formal cautions 4,500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Garamond"/>
              </a:rPr>
              <a:t>Court referred Probation Service Conferenc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800" spc="-1" strike="noStrike">
                <a:solidFill>
                  <a:srgbClr val="ffffff"/>
                </a:solidFill>
                <a:latin typeface="Garamond"/>
              </a:rPr>
              <a:t>40 cases p.a.</a:t>
            </a:r>
            <a:r>
              <a:rPr b="0" i="1" lang="en-I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IE" sz="2800" spc="-1" strike="noStrike">
                <a:solidFill>
                  <a:srgbClr val="ffffff"/>
                </a:solidFill>
                <a:latin typeface="Garamond"/>
              </a:rPr>
              <a:t>66% cases complet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e5e5ff"/>
                </a:solidFill>
                <a:latin typeface="Garamond"/>
              </a:rPr>
              <a:t>Irish RJ – Adult Justice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 u="sng">
                <a:solidFill>
                  <a:srgbClr val="ffffff"/>
                </a:solidFill>
                <a:uFillTx/>
                <a:latin typeface="Garamond"/>
              </a:rPr>
              <a:t>Two Pilots plus national caution sche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Nenagh Community Reparatio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Garamond"/>
              </a:rPr>
              <a:t>up to 20 cases p.a.</a:t>
            </a:r>
            <a:r>
              <a:rPr b="1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Garamond"/>
              </a:rPr>
              <a:t>85% complet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Restorative Justice Services Tallagh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Garamond"/>
              </a:rPr>
              <a:t>reparation panel up to 100 cases p.a.</a:t>
            </a:r>
            <a:r>
              <a:rPr b="1" lang="en-IE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Garamond"/>
              </a:rPr>
              <a:t>90% complet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Garamond"/>
              </a:rPr>
              <a:t>victim offender mediation up to 12 cases p.a. 45% complet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Garda Adult Cautioning Sche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Garamond"/>
              </a:rPr>
              <a:t>diversionary</a:t>
            </a:r>
            <a:r>
              <a:rPr b="1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Garamond"/>
              </a:rPr>
              <a:t>6,000 cautions in 2008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e5e5ff"/>
                </a:solidFill>
                <a:latin typeface="Garamond"/>
              </a:rPr>
              <a:t>Contemporary Developments Abroad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Common Law System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Northern Ireland - Youth Conferenc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UK – Adult conferencing and mediation pilo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New Zealand – Youth/FGC,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Adult/pilo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Australia NSW – Youth diversion, Adult/pilo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North America – mostly VOM, (+Prison VOM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e5e5ff"/>
                </a:solidFill>
                <a:latin typeface="Garamond"/>
              </a:rPr>
              <a:t>Contemporary Developments Abroad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Civil Law System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Austria – VOM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probation diver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Belgium – VOM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prison sche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Finland – VOM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pre-sentence/mitig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Norway – VOM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mediation diver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France – VOM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pre-sentence op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Germany – VOM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option at all stag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10:17:50Z</dcterms:created>
  <dc:creator>Marjorie Fitzpatrick</dc:creator>
  <dc:description/>
  <dc:language>en-US</dc:language>
  <cp:lastModifiedBy>Danelle</cp:lastModifiedBy>
  <dcterms:modified xsi:type="dcterms:W3CDTF">2010-04-13T13:22:07Z</dcterms:modified>
  <cp:revision>23</cp:revision>
  <dc:subject/>
  <dc:title>National Commission on Restorative Justice</dc:title>
</cp:coreProperties>
</file>