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157A-1BCA-425A-9E0A-93EA6E3E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E55E-147E-456A-8B94-F35631A5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BE16-E539-4EF8-B949-9F5F07B2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0F64-DD34-4501-B7E8-AC300A80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80D3-6B76-48E2-8ADD-F62747CB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A66F-55E8-4886-9DF3-9425B788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6610-DECF-4D78-8613-959FB137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AAE6-8422-4FD3-8B04-4ACCADAD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31D8-57BB-4FE0-9F38-AE1552CF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E8B5-CE07-4524-A69A-9842BA77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CE91-0E85-41DF-ADEC-506A6692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21F18-AF07-4CB4-A2BD-64A67156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CFCE-F511-43E9-8B96-10AC4D13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E010-27A2-4F29-911F-B0C98147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517F-EEC3-40B9-A797-09B8A281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A2B0-D387-40A6-AA86-AFE96BF8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0126-591D-4B3E-B808-82BEE57F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7D6D-ACA4-49A7-A5BB-257530CD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22AE4-842C-48D9-9E6C-3F86D570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72166-9B67-467D-909E-64FE11E9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920F-535B-458A-AA96-EAFF982A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C712-9E84-43B3-9509-F0F302B5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ABC72-4431-4BE0-9640-B025D9E6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72666-200A-4C04-A6D4-BA1BA9F0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97C4-6DAB-4131-96CB-2E4D7DE3EB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089C-F8C4-43C7-A680-90D7F08FD4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6000" spc="-1" strike="noStrike">
                <a:solidFill>
                  <a:srgbClr val="e5e5ff"/>
                </a:solidFill>
                <a:latin typeface="Garamond"/>
              </a:rPr>
              <a:t>National Commission on Restorative Justic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esentation to ACJRD on Commission Re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pril 20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Research Based Evid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Evaluations of RJ schem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articip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satisf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successful outco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Meta analysis stud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Shapland, Sherman, Strang, Umbreit, Campbell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O’Dwyer, O’Mahony, Pelikan, Trenczek, Bonta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Research Based Evidence - Victim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IYC 2006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 69% particip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81% offer forgive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UK 2004 - 2008     very positive re experience,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felt offenders had addressed harm d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Z 2005         87% victims felt better after FG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SW 1999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80% participate, 89% agreed p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ustria 2002     RJ experience reduced harm fel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orway 2005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high satisfaction with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Garamond"/>
              </a:rPr>
              <a:t>Research Based Evidence - Offender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orthern Ireland Youth Conferences 20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92% felt RJ helped them realise harm d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97% accepted responsibilty for off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71% nervous at start of conf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98% able to engage fully in discu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98% believed they were listened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93% felt conference plan fa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Research Based Evidence - iss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Victim concer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- RJ soft op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- revictimisa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- participa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Offender issu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-    protection of r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-    voluntary participation – informed cons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-    time during process to refl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Garamond"/>
              </a:rPr>
              <a:t>Research Based Evidence – Recidivis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NIYC 2008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38% reconvicted 1 yr post R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73% reconvicted 1 yr post pri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47% reconvicted 1 yr post oth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UK 2008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statistically significant fewer re-offe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Meta study 2007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36 studies re-offending lower post R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Meta study 2008      39 studies re-offending lower post R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Nenagh 1999 – 2007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26% re-offended post R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Tallaght 2005 – 2006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14% re-offended post R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Garamond"/>
              </a:rPr>
              <a:t>O’Donnell et al 2008</a:t>
            </a:r>
            <a:r>
              <a:rPr b="0" i="1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Garamond"/>
              </a:rPr>
              <a:t>     39% prisoners re-imprisoned 2yrs post rel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Research Based Evidence – Alternative to Pris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o suitable research ev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More research focus on re-offending rec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J not dependent on being a prison alternati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J considerable value to victim and offe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search warranted on use as a prison  alterna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Significant growth in use of imprison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Research Based Evidence - Co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815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stimated Cost per cas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ferr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gun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let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K 2008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J Pilot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£</a:t>
                      </a: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8</a:t>
                      </a: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- £</a:t>
                      </a: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,458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£</a:t>
                      </a: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7 - £2,333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£</a:t>
                      </a: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,261- £4,666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IYCS 2008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ference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£1,000 - £1,500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nagh 2007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€</a:t>
                      </a: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,500 - €6,400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llaght 2007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€</a:t>
                      </a: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,250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Research Based Conference - Cos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2007 Costs of Other Sanctions in Ire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ison Space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€97,7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obation Order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€8,2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obation Supervision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€5,53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ommunity Service Order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€2,02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Researched Based Evidence - Cos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otential Savings from use of RJ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ourt process costs – court time and legal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duced custodial costs – prison space nee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duced re-offending costs – victim ( health, absence ) garda, court, legal, and sanc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duced victim costs – reparation, health and work-absence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Garamond"/>
              </a:rPr>
              <a:t>Sherman and Strang ( 2007 )     Restorative Justice: The Evid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Research Based Evidence – Public Interes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ublic Interest      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State (Stanbridge) v Mahon 197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IE" sz="32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consideration in determining a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is served not just by punishing offender 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oviding a deterrent to future offending but also by </a:t>
            </a:r>
            <a:r>
              <a:rPr b="1" lang="en-IE" sz="3200" spc="-1" strike="noStrike">
                <a:solidFill>
                  <a:srgbClr val="ffffff"/>
                </a:solidFill>
                <a:latin typeface="Garamond"/>
              </a:rPr>
              <a:t>offering an inducement/opportunity to refor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J also in public interest  where it is more effective and efficient than other san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Terms of Refer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To consider the application of the concept of restorative justice with regard to persons brought before the courts on criminal charges 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To make recommendations as to its wider application in this jurisdiction ( including in the context of community courts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Research Based Evidence – Suitability of Offen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Diversionary and Court based RJ exclud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The most serious crimes ( murder rape etc.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SW excludes serious violent off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Z excludes offences involving 2yrs pri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ustria excludes offences involving 5yrs prison +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Seek View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Submissions invi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Meetings and visi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onferences, seminars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gional Worksho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dvisory Fo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Garamond"/>
              </a:rPr>
              <a:t>Recommendations of JOC Report on RJ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ffffff"/>
                </a:solidFill>
                <a:uFillTx/>
                <a:latin typeface="Garamond"/>
              </a:rPr>
              <a:t>Commission / JOC recommendations consist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Wider use of and funding for R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More support for existing Youth and Adult R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Legislate for Adult R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ross sectoral group to oversee strategy and expan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aise judicial awareness of R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J services should link with victim inter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Which RJ Model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ost effective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Noted costs per case abroad €625 to £1,50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Noted pilot costs here €3,250 to €6,400 per c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Noted high costs here of other san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Noted under use of pilot capac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Noted participant satisfaction and benefit leve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Noted lower re-offending following R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ppropri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Noted consistency with Common Law proces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Noted potential as alternative to pri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Need for Statutory Basis for RJ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view pilot experience without legis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view RJ application under Children Act, 200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view RJ application abro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eeds met by legis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Provides certainty and legitimac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Provides legal incentiv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Provides protection of legal righ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Offers guidance and struct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Provides for standards, resources and overs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Roles of Courts Criminal Justice Agencies etc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Courts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referral and approv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Probation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Service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provision of RJ serv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Garda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 support / participate as appropri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Community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 participate and follow up sup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National Committee        -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advisory to Minis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review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oversee co-ordinated strate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propose wider application steps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Garamond"/>
              </a:rPr>
              <a:t>Estimate offender throughput and cost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Throughput targ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5,000 – 10,000 court referrals (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75%ORP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25%VOM/RC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3,600 – 7,200 RJ outcomes (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80%ORP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50%VOM/RC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Additional 6 pilots recommen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to help optimise capac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to broaden experience in delivery and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to enhance costing of national provi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Scale of Diversion from Custodial Sentences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ojected</a:t>
            </a:r>
            <a:r>
              <a:rPr b="0" i="1" lang="en-IE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Scenario</a:t>
            </a:r>
            <a:r>
              <a:rPr b="0" i="1" lang="en-IE" sz="3200" spc="-1" strike="noStrike">
                <a:solidFill>
                  <a:srgbClr val="ffffff"/>
                </a:solidFill>
                <a:latin typeface="Garamond"/>
              </a:rPr>
              <a:t> (draws on 2007 dat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5,800 committals sentenced to &lt;3y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ssume 5% to 10% referred to RJ = 290 – 58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ssume 72.5% referrals succeed = 210 – 42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ssume sentence duration per 2007 patt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210 – 420 committals equivalent to 42 – 85 prison spaces p.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ssociated savings potential = €4.1m to €8.3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National Commission on Restorative Justic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esentation to ACJ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Garamond"/>
              </a:rPr>
              <a:t>April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3200" spc="-1" strike="noStrike">
                <a:solidFill>
                  <a:srgbClr val="ffcc00"/>
                </a:solidFill>
                <a:latin typeface="Garamond"/>
              </a:rPr>
              <a:t>20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Terms of Reference detai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view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existing Irish models of R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contemporary RJ developments abro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research based evidence and evaluation of different RJ models vs other court disposals re: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impact on Victims and Offen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as an alternative to impris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cost and public interest 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range of offences for which suitable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More Details of Ter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Seek views of relevant bodies, interests et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Consider recommendations of Joint Oireachtas Report on R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Consider whether RJ models should be developed on national scale and if s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which models appropriate/ cost effectiv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is legislation need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what are roles of courts, probation service et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estimate case throughput, cost and diversion from               custodial sent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Understanding ter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oncept of restorative justi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before the courts on criminal charg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wider applica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ommunity courts context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Review Irish RJ Mod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J – </a:t>
            </a:r>
            <a:r>
              <a:rPr b="1" lang="en-IE" sz="3200" spc="-1" strike="noStrike">
                <a:solidFill>
                  <a:srgbClr val="ffffff"/>
                </a:solidFill>
                <a:latin typeface="Garamond"/>
              </a:rPr>
              <a:t>Youth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200" spc="-1" strike="noStrike">
                <a:solidFill>
                  <a:srgbClr val="ffffff"/>
                </a:solidFill>
                <a:latin typeface="Garamond"/>
              </a:rPr>
              <a:t>Justice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- Children Act, 200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Garda Juvenile Diversion Programme 2007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RJ events 378, formal cautions 4,500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Court referred Probation Service Conferenc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40 cases p.a.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66% cases comple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Irish RJ – Adult Justic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ffffff"/>
                </a:solidFill>
                <a:uFillTx/>
                <a:latin typeface="Garamond"/>
              </a:rPr>
              <a:t>Two Pilots plus national caution sche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enagh Community Reparatio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Garamond"/>
              </a:rPr>
              <a:t>up to 20 cases p.a.</a:t>
            </a:r>
            <a:r>
              <a:rPr b="1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Garamond"/>
              </a:rPr>
              <a:t>85% comple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storative Justice Services Talla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Garamond"/>
              </a:rPr>
              <a:t>reparation panel up to 100 cases p.a.</a:t>
            </a:r>
            <a:r>
              <a:rPr b="1" lang="en-IE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Garamond"/>
              </a:rPr>
              <a:t>90% comple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Garamond"/>
              </a:rPr>
              <a:t>victim offender mediation up to 12 cases p.a. 45% comple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Garda Adult Cautioning Sche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Garamond"/>
              </a:rPr>
              <a:t>diversionary</a:t>
            </a:r>
            <a:r>
              <a:rPr b="1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Garamond"/>
              </a:rPr>
              <a:t>6,000 cautions in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Contemporary Developments Abroa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ommon Law Syst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orthern Ireland - Youth Conferenc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UK – Adult conferencing and mediation pilo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ew Zealand – Youth/FGC,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dult/pilo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ustralia NSW – Youth diversion, Adult/pilo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orth America – mostly VOM, (+Prison VO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Contemporary Developments Abroa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ivil Law Syst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ustria – VOM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obation diver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Belgium – VOM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ison sche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Finland – VOM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e-sentence/mitig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orway – VOM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mediation diver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France – VOM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e-sentence op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Germany – VOM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option at all stag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0:17:50Z</dcterms:created>
  <dc:creator>Marjorie Fitzpatrick</dc:creator>
  <dc:description/>
  <dc:language>en-US</dc:language>
  <cp:lastModifiedBy>Danelle</cp:lastModifiedBy>
  <dcterms:modified xsi:type="dcterms:W3CDTF">2010-04-13T13:22:07Z</dcterms:modified>
  <cp:revision>23</cp:revision>
  <dc:subject/>
  <dc:title>National Commission on Restorative Justice</dc:title>
</cp:coreProperties>
</file>