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6EC4A-A0E1-465F-A492-D4E4C950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EDB4C-5AE9-4F27-A5AF-E0CF8E8D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F72FE-D094-4667-935D-E80960C2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7F80A-5F12-46D7-AF39-AF668FD6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4350-7BA1-4466-8D15-120C474F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26DE-7100-4391-8779-43561874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3EC1-299D-4427-9AD9-965D2BAB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5406-5308-4879-9F5B-647D3965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8408-1A37-428A-AD5B-7608A670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F85A-2517-44B6-96F4-9AEAB5E0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3EF2-3A3C-440F-AACF-81039E88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5E205-70F5-4EEE-B5B5-0C5F1901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095B-6CE6-4BA2-A09F-8EA9D28C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B240-F2E0-4F4F-ADDE-B911F584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82ED-FB62-4522-B769-02D8D4E2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290E-BED7-477A-88BD-5453F5B0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8A1E-68D3-4448-9B21-6FB2B2D7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7F7A2-34DD-4465-998C-F0A2C3DC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57D7C-7BBD-43D5-BB01-8F8BE9A9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3E0FF-1BA3-448C-B577-B7FBC1AF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47542-6A24-4209-96D6-9AAFF498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DD0CA-92B2-4671-AB18-BB2A63BD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18112-D781-4A67-8D4F-AC0CE1A5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6A66F-9E98-4F44-82AF-7A6E8D21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463C-2679-4F73-B474-2659EB5346F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9FD5-5FE0-4D91-B0F3-E0C55B24F9C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38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MENTAL HEALTH IN THE CRIMINAL JUSTICE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7280" y="3141360"/>
            <a:ext cx="65138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Garamond"/>
              </a:rPr>
              <a:t>The Perspective From The Irish Prison Servi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Garamond"/>
              </a:rPr>
              <a:t>Fergal Black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Garamond"/>
              </a:rPr>
              <a:t>Director of Healthcare, Irish Prison Servic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Garamond"/>
              </a:rPr>
              <a:t>Association for Criminal Justice Research and Development</a:t>
            </a:r>
            <a:r>
              <a:rPr b="0" lang="en-IE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Diver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Vision for Change (2006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8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Right of those with mental health illness to receive mental health care, unless subject to legal and cogent rationale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Transfer of persons with significant mental health illness from the CJS to hospital or community treatment setting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5e5ff"/>
                </a:solidFill>
                <a:latin typeface="Garamond"/>
              </a:rPr>
              <a:t>Diversions to Community Mental Health Treatment 2007 – 2009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39640" y="1557360"/>
          <a:ext cx="820908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82090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CLIA 2006</a:t>
            </a: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CLIA Amendment Bill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Condition of Discharge: Mental Health Review Tribunal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Community Forensic Setting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Improve throughput and access to CMH bed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As prison numbers rise, more committals with poor levels of general health, and mental health specifica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Serious mental illness, for a small number, may be a prominent influence in offen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easons for increase in numbers of prisoners with mental health issues are poorly understood but include a lack of alternatives to custo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Garamond"/>
              </a:rPr>
              <a:t>Public concern and lower tolerance in society for abnormal behaviour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Garamond"/>
              </a:rPr>
              <a:t>Public pressure to tolerate fewer risks to public safety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Garamond"/>
              </a:rPr>
              <a:t>Perception that prison is a safer location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Garamond"/>
              </a:rPr>
              <a:t>Depletion in capacity in community mental health facilities coinciding with the creation of increased capacity in the criminal justice system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Backgrou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Increase in Prisoner Numbers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5897520" cy="36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Healthcare in Pris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3 main care domains: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8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Primary Care and Chronic Disease Management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8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Drug Treatment and Addiction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8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Mental Health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Primary C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Model of care through which healthcare is delivered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Healthcare Standard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Care Intervention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Drug Treatment and Addi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IPS Drug Treatment Clinical Policy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Investment in Responding to Addiction Issue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Increase in number of prisoners treated with substitution therapy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5e5ff"/>
                </a:solidFill>
                <a:latin typeface="Garamond"/>
              </a:rPr>
              <a:t>Number of Prisoners Receiving Methadone Treatmen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24600" y="1706400"/>
            <a:ext cx="7640280" cy="4539600"/>
            <a:chOff x="624600" y="1706400"/>
            <a:chExt cx="7640280" cy="4539600"/>
          </a:xfrm>
        </p:grpSpPr>
        <p:sp>
          <p:nvSpPr>
            <p:cNvPr id="113" name=""/>
            <p:cNvSpPr/>
            <p:nvPr/>
          </p:nvSpPr>
          <p:spPr>
            <a:xfrm>
              <a:off x="624600" y="1706400"/>
              <a:ext cx="7607160" cy="4539600"/>
            </a:xfrm>
            <a:prstGeom prst="rect">
              <a:avLst/>
            </a:prstGeom>
            <a:solidFill>
              <a:srgbClr val="ffffff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62320" y="2379960"/>
              <a:ext cx="6598080" cy="32868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62320" y="5118840"/>
              <a:ext cx="6598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62320" y="4570920"/>
              <a:ext cx="6598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62320" y="4023720"/>
              <a:ext cx="65980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62320" y="3475440"/>
              <a:ext cx="65980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62320" y="2927520"/>
              <a:ext cx="65980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62320" y="2379960"/>
              <a:ext cx="65980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62320" y="2379960"/>
              <a:ext cx="6598080" cy="3286800"/>
            </a:xfrm>
            <a:prstGeom prst="rect">
              <a:avLst/>
            </a:prstGeom>
            <a:noFill/>
            <a:ln w="14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99480" y="5588280"/>
              <a:ext cx="205200" cy="78480"/>
            </a:xfrm>
            <a:prstGeom prst="rect">
              <a:avLst/>
            </a:prstGeom>
            <a:solidFill>
              <a:srgbClr val="ff00ff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66200" y="4727520"/>
              <a:ext cx="187920" cy="939240"/>
            </a:xfrm>
            <a:prstGeom prst="rect">
              <a:avLst/>
            </a:prstGeom>
            <a:solidFill>
              <a:srgbClr val="ff00ff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15640" y="4508640"/>
              <a:ext cx="205200" cy="1158120"/>
            </a:xfrm>
            <a:prstGeom prst="rect">
              <a:avLst/>
            </a:prstGeom>
            <a:solidFill>
              <a:srgbClr val="ff00ff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82360" y="4054680"/>
              <a:ext cx="187920" cy="1612080"/>
            </a:xfrm>
            <a:prstGeom prst="rect">
              <a:avLst/>
            </a:prstGeom>
            <a:solidFill>
              <a:srgbClr val="ff00ff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31800" y="4415040"/>
              <a:ext cx="205200" cy="1251720"/>
            </a:xfrm>
            <a:prstGeom prst="rect">
              <a:avLst/>
            </a:prstGeom>
            <a:solidFill>
              <a:srgbClr val="ff00ff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98520" y="3960360"/>
              <a:ext cx="205200" cy="1706400"/>
            </a:xfrm>
            <a:prstGeom prst="rect">
              <a:avLst/>
            </a:prstGeom>
            <a:solidFill>
              <a:srgbClr val="ff00ff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65240" y="4179960"/>
              <a:ext cx="187200" cy="1486800"/>
            </a:xfrm>
            <a:prstGeom prst="rect">
              <a:avLst/>
            </a:prstGeom>
            <a:solidFill>
              <a:srgbClr val="ff00ff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15040" y="3647880"/>
              <a:ext cx="204120" cy="2018880"/>
            </a:xfrm>
            <a:prstGeom prst="rect">
              <a:avLst/>
            </a:prstGeom>
            <a:solidFill>
              <a:srgbClr val="ff00ff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81400" y="3459960"/>
              <a:ext cx="187200" cy="2206800"/>
            </a:xfrm>
            <a:prstGeom prst="rect">
              <a:avLst/>
            </a:prstGeom>
            <a:solidFill>
              <a:srgbClr val="ff00ff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30480" y="3021840"/>
              <a:ext cx="204840" cy="2644920"/>
            </a:xfrm>
            <a:prstGeom prst="rect">
              <a:avLst/>
            </a:prstGeom>
            <a:solidFill>
              <a:srgbClr val="ff00ff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54120" y="5494680"/>
              <a:ext cx="187200" cy="172080"/>
            </a:xfrm>
            <a:prstGeom prst="rect">
              <a:avLst/>
            </a:prstGeom>
            <a:solidFill>
              <a:srgbClr val="660066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20840" y="5526000"/>
              <a:ext cx="187200" cy="140760"/>
            </a:xfrm>
            <a:prstGeom prst="rect">
              <a:avLst/>
            </a:prstGeom>
            <a:solidFill>
              <a:srgbClr val="660066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70640" y="5510520"/>
              <a:ext cx="187200" cy="156240"/>
            </a:xfrm>
            <a:prstGeom prst="rect">
              <a:avLst/>
            </a:prstGeom>
            <a:solidFill>
              <a:srgbClr val="660066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37000" y="5556960"/>
              <a:ext cx="187200" cy="109800"/>
            </a:xfrm>
            <a:prstGeom prst="rect">
              <a:avLst/>
            </a:prstGeom>
            <a:solidFill>
              <a:srgbClr val="660066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03720" y="5479200"/>
              <a:ext cx="187200" cy="187560"/>
            </a:xfrm>
            <a:prstGeom prst="rect">
              <a:avLst/>
            </a:prstGeom>
            <a:solidFill>
              <a:srgbClr val="660066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52800" y="5494680"/>
              <a:ext cx="187920" cy="172080"/>
            </a:xfrm>
            <a:prstGeom prst="rect">
              <a:avLst/>
            </a:prstGeom>
            <a:solidFill>
              <a:srgbClr val="660066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19160" y="5463720"/>
              <a:ext cx="187920" cy="203040"/>
            </a:xfrm>
            <a:prstGeom prst="rect">
              <a:avLst/>
            </a:prstGeom>
            <a:solidFill>
              <a:srgbClr val="660066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68960" y="5401080"/>
              <a:ext cx="187920" cy="265680"/>
            </a:xfrm>
            <a:prstGeom prst="rect">
              <a:avLst/>
            </a:prstGeom>
            <a:solidFill>
              <a:srgbClr val="660066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735680" y="5369400"/>
              <a:ext cx="188280" cy="297360"/>
            </a:xfrm>
            <a:prstGeom prst="rect">
              <a:avLst/>
            </a:prstGeom>
            <a:solidFill>
              <a:srgbClr val="660066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62320" y="2379960"/>
              <a:ext cx="360" cy="328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28480" y="5666760"/>
              <a:ext cx="338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28480" y="5118840"/>
              <a:ext cx="338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28480" y="4570920"/>
              <a:ext cx="338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28480" y="4023720"/>
              <a:ext cx="3384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28480" y="3475440"/>
              <a:ext cx="3384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28480" y="2927520"/>
              <a:ext cx="3384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28480" y="2379960"/>
              <a:ext cx="3384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62320" y="5666760"/>
              <a:ext cx="6598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1462320" y="5666760"/>
              <a:ext cx="36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129040" y="5666760"/>
              <a:ext cx="72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2778840" y="5666760"/>
              <a:ext cx="36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445200" y="5666760"/>
              <a:ext cx="72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095000" y="5666760"/>
              <a:ext cx="36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761720" y="5666760"/>
              <a:ext cx="72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428080" y="5666760"/>
              <a:ext cx="72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6077880" y="5666760"/>
              <a:ext cx="72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744600" y="5666760"/>
              <a:ext cx="72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7394400" y="5666760"/>
              <a:ext cx="36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8060760" y="5666760"/>
              <a:ext cx="72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86320" y="1847520"/>
              <a:ext cx="4894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Increased Provision Methadone Treatment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74760" y="558756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17080" y="5040360"/>
              <a:ext cx="19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5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47960" y="4492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1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65600" y="39434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15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13040" y="340020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2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32120" y="284940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25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13040" y="230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3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84720" y="5762520"/>
              <a:ext cx="313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_2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69080" y="5762520"/>
              <a:ext cx="313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_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19960" y="5762520"/>
              <a:ext cx="313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_20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67600" y="5762520"/>
              <a:ext cx="313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_200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32880" y="5762520"/>
              <a:ext cx="313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_200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85200" y="5762520"/>
              <a:ext cx="313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_200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49040" y="5762520"/>
              <a:ext cx="313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_200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15400" y="5762520"/>
              <a:ext cx="313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_200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64840" y="5762520"/>
              <a:ext cx="313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_200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31920" y="5762520"/>
              <a:ext cx="313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_20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69840" y="6014880"/>
              <a:ext cx="258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Small Fonts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Small Fonts"/>
                </a:rPr>
                <a:t>Yea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761760" y="3303360"/>
              <a:ext cx="136800" cy="14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761760" y="3303360"/>
              <a:ext cx="13680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6495840" y="1769400"/>
              <a:ext cx="1662120" cy="453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44600" y="1847520"/>
              <a:ext cx="102240" cy="93960"/>
            </a:xfrm>
            <a:prstGeom prst="rect">
              <a:avLst/>
            </a:prstGeom>
            <a:solidFill>
              <a:srgbClr val="ff00ff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1750680"/>
              <a:ext cx="1383480" cy="4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mall Fonts"/>
                </a:rPr>
                <a:t>Number of client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44600" y="2066760"/>
              <a:ext cx="102240" cy="93960"/>
            </a:xfrm>
            <a:prstGeom prst="rect">
              <a:avLst/>
            </a:prstGeom>
            <a:solidFill>
              <a:srgbClr val="660066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72040" y="202068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mall Fonts"/>
                </a:rPr>
                <a:t>New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4600" y="1706400"/>
              <a:ext cx="7607160" cy="4539600"/>
            </a:xfrm>
            <a:prstGeom prst="rect">
              <a:avLst/>
            </a:prstGeom>
            <a:noFill/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Mental Healt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Significant health deficits among prisoner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Prisoners defined as a special needs group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Prevalence of severe mental illness is significantly worse among prisoners compared to the general population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CMH NFMHS Study – 7.5% of men on remand suffer psychosis; twice the national average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Service Provi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Dublin &amp; Portlaoise Prisons - CMH NFMHS provides 20 consultant-led in-reach sessions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Other Prisons – mental health services are provided by mix of HSE-based and privately contracted psychiatrist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Access to CMH and local mental health service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e5e5ff"/>
                </a:solidFill>
                <a:latin typeface="Garamond"/>
              </a:rPr>
              <a:t>Number of Prisoners Awaiting Transfer to CMH</a:t>
            </a:r>
            <a:br>
              <a:rPr sz="3000"/>
            </a:br>
            <a:r>
              <a:rPr b="1" lang="en-IE" sz="3000" spc="-1" strike="noStrike">
                <a:solidFill>
                  <a:srgbClr val="e5e5ff"/>
                </a:solidFill>
                <a:latin typeface="Garamond"/>
              </a:rPr>
              <a:t>January – November 2010</a:t>
            </a:r>
            <a:br>
              <a:rPr sz="3000"/>
            </a:b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5280" y="1628640"/>
          <a:ext cx="819468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28640"/>
                    <a:ext cx="819468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3:00:28Z</dcterms:created>
  <dc:creator>Administrator</dc:creator>
  <dc:description/>
  <dc:language>en-US</dc:language>
  <cp:lastModifiedBy>Danelle</cp:lastModifiedBy>
  <dcterms:modified xsi:type="dcterms:W3CDTF">2010-11-18T09:27:49Z</dcterms:modified>
  <cp:revision>10</cp:revision>
  <dc:subject/>
  <dc:title>MENTAL HEALTH IN THE CRIMINAL JUSTICE SYSTEM</dc:title>
</cp:coreProperties>
</file>