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6DF83-3B70-48DA-A478-935DD6CD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2D44F-28E5-4A75-9FF5-AC91E22D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7C6C5-B791-4372-8FF7-499CBA64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38516-BD2D-48CD-A634-B4E61D6B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4280-3217-41AE-AF3D-88B06EA5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3ECD-A6C9-4586-BAEB-4DD4282B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E04C-64C8-4224-A375-C2B98702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DC2D-DA7F-4F92-8827-E78EB4F6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B26D-ECF7-4983-A446-FE3BA30E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C39B-9519-48E0-8FC2-338231D6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551D-E32C-4F27-9523-21D9BF08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9374B-6346-40FD-87ED-AB4AA025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4FEA-8C00-417C-9A4A-3A5B4B3C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5BA8-9AED-4949-AD04-72CA344E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3BFB-0383-45AD-B84B-B70169BC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4175-0448-4231-AFB3-89665BFC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E093-CB75-4B5D-B25E-7E0A28BE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F9FC1-FB51-496B-8305-2D6F8393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73096-3D7F-4AB9-8EC9-27C5CEAB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F4503-5370-4BDB-A50B-834690D5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F8346-B141-470B-A3F5-23740B66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3E2FA-F453-44EB-A17F-CBE8D301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1C4AA-B145-4E78-BB0B-40EB73B4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B2858-F721-40CF-9DD4-23B8C3CA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6B9B-B176-41C3-A329-A2F572F6104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03AE-DE14-444A-BF40-79BE217AC69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38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MENTAL HEALTH IN THE CRIMINAL JUSTICE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7280" y="3141360"/>
            <a:ext cx="65138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Garamond"/>
              </a:rPr>
              <a:t>The Perspective From The Irish Prison Servi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Garamond"/>
              </a:rPr>
              <a:t>Fergal Black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Garamond"/>
              </a:rPr>
              <a:t>Director of Healthcare, Irish Prison Servi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Garamond"/>
              </a:rPr>
              <a:t>Association for Criminal Justice Research and Development</a:t>
            </a:r>
            <a:r>
              <a:rPr b="0" lang="en-IE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Diver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Vision for Change (2006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8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Right of those with mental health illness to receive mental health care, unless subject to legal and cogent rationale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Transfer of persons with significant mental health illness from the CJS to hospital or community treatment setting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5e5ff"/>
                </a:solidFill>
                <a:latin typeface="Garamond"/>
              </a:rPr>
              <a:t>Diversions to Community Mental Health Treatment 2007 – 2009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39640" y="1557360"/>
          <a:ext cx="820908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82090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CLIA 2006</a:t>
            </a: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CLIA Amendment Bill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Condition of Discharge: Mental Health Review Tribunal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Community Forensic Setting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Improve throughput and access to CMH bed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As prison numbers rise, more committals with poor levels of general health, and mental health specifica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Serious mental illness, for a small number, may be a prominent influence in offen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Reasons for increase in numbers of prisoners with mental health issues are poorly understood but include a lack of alternatives to cust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Garamond"/>
              </a:rPr>
              <a:t>Public concern and lower tolerance in society for abnormal behaviour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Garamond"/>
              </a:rPr>
              <a:t>Public pressure to tolerate fewer risks to public safety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Garamond"/>
              </a:rPr>
              <a:t>Perception that prison is a safer location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Garamond"/>
              </a:rPr>
              <a:t>Depletion in capacity in community mental health facilities coinciding with the creation of increased capacity in the criminal justice system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Backgrou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Increase in Prisoner Numbers</a:t>
            </a:r>
            <a:r>
              <a:rPr b="0" lang="en-IE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5897520" cy="36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Healthcare in Pris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3 main care domains: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8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Primary Care and Chronic Disease Management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8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Drug Treatment and Addiction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8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Mental Health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Primary C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Model of care through which healthcare is delivered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Healthcare Standard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Care Intervention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Drug Treatment and Addi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IPS Drug Treatment Clinical Policy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Investment in Responding to Addiction Issue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Increase in number of prisoners treated with substitution therapy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e5e5ff"/>
                </a:solidFill>
                <a:latin typeface="Garamond"/>
              </a:rPr>
              <a:t>Number of Prisoners Receiving Methadone Treatmen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24600" y="1706400"/>
            <a:ext cx="7640280" cy="4539600"/>
            <a:chOff x="624600" y="1706400"/>
            <a:chExt cx="7640280" cy="4539600"/>
          </a:xfrm>
        </p:grpSpPr>
        <p:sp>
          <p:nvSpPr>
            <p:cNvPr id="113" name=""/>
            <p:cNvSpPr/>
            <p:nvPr/>
          </p:nvSpPr>
          <p:spPr>
            <a:xfrm>
              <a:off x="624600" y="1706400"/>
              <a:ext cx="7607160" cy="4539600"/>
            </a:xfrm>
            <a:prstGeom prst="rect">
              <a:avLst/>
            </a:prstGeom>
            <a:solidFill>
              <a:srgbClr val="ffffff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62320" y="2379960"/>
              <a:ext cx="6598080" cy="32868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62320" y="5118840"/>
              <a:ext cx="6598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62320" y="4570920"/>
              <a:ext cx="6598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62320" y="4023720"/>
              <a:ext cx="65980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62320" y="3475440"/>
              <a:ext cx="65980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62320" y="2927520"/>
              <a:ext cx="65980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62320" y="2379960"/>
              <a:ext cx="65980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62320" y="2379960"/>
              <a:ext cx="6598080" cy="3286800"/>
            </a:xfrm>
            <a:prstGeom prst="rect">
              <a:avLst/>
            </a:prstGeom>
            <a:noFill/>
            <a:ln w="14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99480" y="5588280"/>
              <a:ext cx="205200" cy="78480"/>
            </a:xfrm>
            <a:prstGeom prst="rect">
              <a:avLst/>
            </a:prstGeom>
            <a:solidFill>
              <a:srgbClr val="ff00ff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66200" y="4727520"/>
              <a:ext cx="187920" cy="939240"/>
            </a:xfrm>
            <a:prstGeom prst="rect">
              <a:avLst/>
            </a:prstGeom>
            <a:solidFill>
              <a:srgbClr val="ff00ff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15640" y="4508640"/>
              <a:ext cx="205200" cy="1158120"/>
            </a:xfrm>
            <a:prstGeom prst="rect">
              <a:avLst/>
            </a:prstGeom>
            <a:solidFill>
              <a:srgbClr val="ff00ff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2360" y="4054680"/>
              <a:ext cx="187920" cy="1612080"/>
            </a:xfrm>
            <a:prstGeom prst="rect">
              <a:avLst/>
            </a:prstGeom>
            <a:solidFill>
              <a:srgbClr val="ff00ff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31800" y="4415040"/>
              <a:ext cx="205200" cy="1251720"/>
            </a:xfrm>
            <a:prstGeom prst="rect">
              <a:avLst/>
            </a:prstGeom>
            <a:solidFill>
              <a:srgbClr val="ff00ff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98520" y="3960360"/>
              <a:ext cx="205200" cy="1706400"/>
            </a:xfrm>
            <a:prstGeom prst="rect">
              <a:avLst/>
            </a:prstGeom>
            <a:solidFill>
              <a:srgbClr val="ff00ff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65240" y="4179960"/>
              <a:ext cx="187200" cy="1486800"/>
            </a:xfrm>
            <a:prstGeom prst="rect">
              <a:avLst/>
            </a:prstGeom>
            <a:solidFill>
              <a:srgbClr val="ff00ff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15040" y="3647880"/>
              <a:ext cx="204120" cy="2018880"/>
            </a:xfrm>
            <a:prstGeom prst="rect">
              <a:avLst/>
            </a:prstGeom>
            <a:solidFill>
              <a:srgbClr val="ff00ff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81400" y="3459960"/>
              <a:ext cx="187200" cy="2206800"/>
            </a:xfrm>
            <a:prstGeom prst="rect">
              <a:avLst/>
            </a:prstGeom>
            <a:solidFill>
              <a:srgbClr val="ff00ff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30480" y="3021840"/>
              <a:ext cx="204840" cy="2644920"/>
            </a:xfrm>
            <a:prstGeom prst="rect">
              <a:avLst/>
            </a:prstGeom>
            <a:solidFill>
              <a:srgbClr val="ff00ff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54120" y="5494680"/>
              <a:ext cx="187200" cy="172080"/>
            </a:xfrm>
            <a:prstGeom prst="rect">
              <a:avLst/>
            </a:prstGeom>
            <a:solidFill>
              <a:srgbClr val="660066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20840" y="5526000"/>
              <a:ext cx="187200" cy="140760"/>
            </a:xfrm>
            <a:prstGeom prst="rect">
              <a:avLst/>
            </a:prstGeom>
            <a:solidFill>
              <a:srgbClr val="660066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70640" y="5510520"/>
              <a:ext cx="187200" cy="156240"/>
            </a:xfrm>
            <a:prstGeom prst="rect">
              <a:avLst/>
            </a:prstGeom>
            <a:solidFill>
              <a:srgbClr val="660066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37000" y="5556960"/>
              <a:ext cx="187200" cy="109800"/>
            </a:xfrm>
            <a:prstGeom prst="rect">
              <a:avLst/>
            </a:prstGeom>
            <a:solidFill>
              <a:srgbClr val="660066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03720" y="5479200"/>
              <a:ext cx="187200" cy="187560"/>
            </a:xfrm>
            <a:prstGeom prst="rect">
              <a:avLst/>
            </a:prstGeom>
            <a:solidFill>
              <a:srgbClr val="660066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52800" y="5494680"/>
              <a:ext cx="187920" cy="172080"/>
            </a:xfrm>
            <a:prstGeom prst="rect">
              <a:avLst/>
            </a:prstGeom>
            <a:solidFill>
              <a:srgbClr val="660066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19160" y="5463720"/>
              <a:ext cx="187920" cy="203040"/>
            </a:xfrm>
            <a:prstGeom prst="rect">
              <a:avLst/>
            </a:prstGeom>
            <a:solidFill>
              <a:srgbClr val="660066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68960" y="5401080"/>
              <a:ext cx="187920" cy="265680"/>
            </a:xfrm>
            <a:prstGeom prst="rect">
              <a:avLst/>
            </a:prstGeom>
            <a:solidFill>
              <a:srgbClr val="660066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35680" y="5369400"/>
              <a:ext cx="188280" cy="297360"/>
            </a:xfrm>
            <a:prstGeom prst="rect">
              <a:avLst/>
            </a:prstGeom>
            <a:solidFill>
              <a:srgbClr val="660066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62320" y="2379960"/>
              <a:ext cx="360" cy="328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28480" y="5666760"/>
              <a:ext cx="33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28480" y="5118840"/>
              <a:ext cx="33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28480" y="4570920"/>
              <a:ext cx="338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28480" y="4023720"/>
              <a:ext cx="3384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28480" y="3475440"/>
              <a:ext cx="3384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28480" y="2927520"/>
              <a:ext cx="3384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28480" y="2379960"/>
              <a:ext cx="3384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62320" y="5666760"/>
              <a:ext cx="65980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1462320" y="5666760"/>
              <a:ext cx="36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129040" y="5666760"/>
              <a:ext cx="72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2778840" y="5666760"/>
              <a:ext cx="36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445200" y="5666760"/>
              <a:ext cx="72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095000" y="5666760"/>
              <a:ext cx="36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761720" y="5666760"/>
              <a:ext cx="72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428080" y="5666760"/>
              <a:ext cx="72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6077880" y="5666760"/>
              <a:ext cx="72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744600" y="5666760"/>
              <a:ext cx="72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394400" y="5666760"/>
              <a:ext cx="36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8060760" y="5666760"/>
              <a:ext cx="72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86320" y="1847520"/>
              <a:ext cx="4894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Increased Provision Methadone Treatment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74760" y="55875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17080" y="5040360"/>
              <a:ext cx="19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5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47960" y="4492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1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65600" y="39434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15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13040" y="340020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2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32120" y="284940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25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13040" y="230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3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84720" y="5762520"/>
              <a:ext cx="31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_2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69080" y="5762520"/>
              <a:ext cx="31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_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19960" y="5762520"/>
              <a:ext cx="31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_20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67600" y="5762520"/>
              <a:ext cx="31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_200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32880" y="5762520"/>
              <a:ext cx="31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_200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85200" y="5762520"/>
              <a:ext cx="31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_200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49040" y="5762520"/>
              <a:ext cx="31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_200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15400" y="5762520"/>
              <a:ext cx="31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_200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64840" y="5762520"/>
              <a:ext cx="31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_200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31920" y="5762520"/>
              <a:ext cx="313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mall Fonts"/>
                </a:rPr>
                <a:t>_20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69840" y="6014880"/>
              <a:ext cx="258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Small Fonts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Small Fonts"/>
                </a:rPr>
                <a:t>Yea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761760" y="3303360"/>
              <a:ext cx="13680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761760" y="3303360"/>
              <a:ext cx="13680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6495840" y="1769400"/>
              <a:ext cx="1662120" cy="453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44600" y="1847520"/>
              <a:ext cx="102240" cy="93960"/>
            </a:xfrm>
            <a:prstGeom prst="rect">
              <a:avLst/>
            </a:prstGeom>
            <a:solidFill>
              <a:srgbClr val="ff00ff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1750680"/>
              <a:ext cx="1383480" cy="4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mall Fonts"/>
                </a:rPr>
                <a:t>Number of client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44600" y="2066760"/>
              <a:ext cx="102240" cy="93960"/>
            </a:xfrm>
            <a:prstGeom prst="rect">
              <a:avLst/>
            </a:prstGeom>
            <a:solidFill>
              <a:srgbClr val="660066"/>
            </a:solidFill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72040" y="202068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mall Fonts"/>
                </a:rPr>
                <a:t>New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24600" y="1706400"/>
              <a:ext cx="7607160" cy="4539600"/>
            </a:xfrm>
            <a:prstGeom prst="rect">
              <a:avLst/>
            </a:prstGeom>
            <a:noFill/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Mental Healt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Significant health deficits among prisoner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Prisoners defined as a special needs group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Prevalence of severe mental illness is significantly worse among prisoners compared to the general population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CMH NFMHS Study – 7.5% of men on remand suffer psychosis; twice the national average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e5e5ff"/>
                </a:solidFill>
                <a:latin typeface="Garamond"/>
              </a:rPr>
              <a:t>Service Provis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Dublin &amp; Portlaoise Prisons - CMH NFMHS provides 20 consultant-led in-reach sessions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Other Prisons – mental health services are provided by mix of HSE-based and privately contracted psychiatrist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8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Garamond"/>
              </a:rPr>
              <a:t>Access to CMH and local mental health service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e5e5ff"/>
                </a:solidFill>
                <a:latin typeface="Garamond"/>
              </a:rPr>
              <a:t>Number of Prisoners Awaiting Transfer to CMH</a:t>
            </a:r>
            <a:br>
              <a:rPr sz="3000"/>
            </a:br>
            <a:r>
              <a:rPr b="1" lang="en-IE" sz="3000" spc="-1" strike="noStrike">
                <a:solidFill>
                  <a:srgbClr val="e5e5ff"/>
                </a:solidFill>
                <a:latin typeface="Garamond"/>
              </a:rPr>
              <a:t>January – November 2010</a:t>
            </a:r>
            <a:br>
              <a:rPr sz="3000"/>
            </a:b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1628640"/>
          <a:ext cx="8194680" cy="45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28640"/>
                    <a:ext cx="819468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00:28Z</dcterms:created>
  <dc:creator>Administrator</dc:creator>
  <dc:description/>
  <dc:language>en-US</dc:language>
  <cp:lastModifiedBy>Danelle</cp:lastModifiedBy>
  <dcterms:modified xsi:type="dcterms:W3CDTF">2010-11-18T09:27:49Z</dcterms:modified>
  <cp:revision>10</cp:revision>
  <dc:subject/>
  <dc:title>MENTAL HEALTH IN THE CRIMINAL JUSTICE SYSTEM</dc:title>
</cp:coreProperties>
</file>