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E5B63-77D3-4246-897C-9A7AA33CD5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DeclareDigni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7BA27-1080-4144-B6FB-DD1CCE58E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DeclareDigni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DeclareDigni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548-D64E-4D7E-A0A5-3C8C8568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666-B6C4-45E0-93F9-A7E1D0EF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FF2-0FDC-44A4-B80D-559128FB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3F0-CD3A-449B-9B2D-08223F91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418-4448-4E97-BC76-B44DA883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0F4-C39A-423C-B45F-5D5EBF2A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E5A-5038-44F8-B51C-B9490E20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EB5-4D00-44DE-9956-1662A619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1BA-8F3E-4219-B6E7-EB4BBB1F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A00-F7F9-4F03-A6B2-2FB9CA0B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982-ED3F-4000-ABED-5F34B4E4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0FA-8868-419A-8BE2-4568B40F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0679D-4536-4984-A8FA-0CA61C0197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A7B55-DADE-4F5F-A12A-D57DDA3EB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e2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3760" y="171108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nity </a:t>
            </a:r>
            <a:br>
              <a:rPr sz="3200"/>
            </a:b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ssential Role It Plays in Resolving Conflict</a:t>
            </a:r>
            <a:br>
              <a:rPr sz="32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315200" y="-11160"/>
            <a:ext cx="1828800" cy="6858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340080" y="3238560"/>
            <a:ext cx="19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. Donna Hi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untitled.PNG"/>
          <p:cNvPicPr/>
          <p:nvPr/>
        </p:nvPicPr>
        <p:blipFill>
          <a:blip r:embed="rId2"/>
          <a:stretch/>
        </p:blipFill>
        <p:spPr>
          <a:xfrm>
            <a:off x="1542960" y="762120"/>
            <a:ext cx="6429600" cy="6095880"/>
          </a:xfrm>
          <a:prstGeom prst="rect">
            <a:avLst/>
          </a:prstGeom>
          <a:ln w="38160">
            <a:solidFill>
              <a:srgbClr val="1025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554040" y="712800"/>
            <a:ext cx="3798720" cy="55148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4206960" y="1814400"/>
            <a:ext cx="4457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a Hi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vard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therhead Center for International Aff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icks@wcfia.harva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DeclareDignit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DrDonnaHic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7713720" y="-11160"/>
            <a:ext cx="1430280" cy="6858000"/>
          </a:xfrm>
          <a:custGeom>
            <a:avLst/>
            <a:gdLst>
              <a:gd name="textAreaLeft" fmla="*/ 0 w 1430280"/>
              <a:gd name="textAreaRight" fmla="*/ 1430640 w 14302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1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igni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ource of Well-B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ource of Suff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ource of Reconcil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"/>
          <p:cNvSpPr/>
          <p:nvPr/>
        </p:nvSpPr>
        <p:spPr>
          <a:xfrm>
            <a:off x="7315200" y="-11160"/>
            <a:ext cx="1828800" cy="6858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b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25704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Digni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903240" y="2062080"/>
            <a:ext cx="6411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ent value and vulner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not something that comes and goes.  It is a part of our DNA.  We all have it, but we need to learn how to act lik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our internal barometer indicating how we feel about our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what gets injured when we are treated as if we didn’t ma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the glue that connects us to others—it’s what makes relationship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7315200" y="-11160"/>
            <a:ext cx="1828800" cy="6858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254061"/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-74520"/>
            <a:ext cx="9182160" cy="692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Documents and Settings\PR-Ictus\Local Settings\Temporary Internet Files\Content.IE5\SAMFFE90\MC900436915[1].png"/>
          <p:cNvPicPr/>
          <p:nvPr/>
        </p:nvPicPr>
        <p:blipFill>
          <a:blip r:embed="rId2"/>
          <a:stretch/>
        </p:blipFill>
        <p:spPr>
          <a:xfrm>
            <a:off x="5886360" y="773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3589200" y="85680"/>
            <a:ext cx="2125800" cy="2517840"/>
          </a:xfrm>
          <a:prstGeom prst="rect">
            <a:avLst/>
          </a:prstGeom>
          <a:ln w="9360">
            <a:solidFill>
              <a:srgbClr val="1e1c11"/>
            </a:solidFill>
            <a:miter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0" y="4572000"/>
            <a:ext cx="4300560" cy="2286000"/>
          </a:xfrm>
          <a:prstGeom prst="rect">
            <a:avLst/>
          </a:prstGeom>
          <a:ln w="9360">
            <a:solidFill>
              <a:srgbClr val="4a452a"/>
            </a:solidFill>
            <a:miter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4300560" y="3265560"/>
            <a:ext cx="4843440" cy="3592440"/>
          </a:xfrm>
          <a:prstGeom prst="rect">
            <a:avLst/>
          </a:prstGeom>
          <a:ln w="9360">
            <a:solidFill>
              <a:srgbClr val="1e1c11"/>
            </a:solidFill>
            <a:miter/>
          </a:ln>
        </p:spPr>
      </p:pic>
      <p:cxnSp>
        <p:nvCxnSpPr>
          <p:cNvPr id="62" name="Straight Arrow Connector 8"/>
          <p:cNvCxnSpPr/>
          <p:nvPr/>
        </p:nvCxnSpPr>
        <p:spPr>
          <a:xfrm flipV="1">
            <a:off x="2268360" y="2743920"/>
            <a:ext cx="867600" cy="1350360"/>
          </a:xfrm>
          <a:prstGeom prst="straightConnector1">
            <a:avLst/>
          </a:prstGeom>
          <a:ln w="7632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63" name="Straight Arrow Connector 9"/>
          <p:cNvCxnSpPr/>
          <p:nvPr/>
        </p:nvCxnSpPr>
        <p:spPr>
          <a:xfrm flipH="1" flipV="1">
            <a:off x="5850720" y="2096280"/>
            <a:ext cx="972360" cy="988200"/>
          </a:xfrm>
          <a:prstGeom prst="straightConnector1">
            <a:avLst/>
          </a:prstGeom>
          <a:ln w="76320">
            <a:solidFill>
              <a:srgbClr val="254061"/>
            </a:solidFill>
            <a:miter/>
            <a:tailEnd len="med" type="arrow" w="med"/>
          </a:ln>
        </p:spPr>
      </p:cxnSp>
      <p:sp>
        <p:nvSpPr>
          <p:cNvPr id="64" name="TextBox 7"/>
          <p:cNvSpPr/>
          <p:nvPr/>
        </p:nvSpPr>
        <p:spPr>
          <a:xfrm>
            <a:off x="398520" y="504720"/>
            <a:ext cx="259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ignity is viola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7"/>
          <p:cNvSpPr/>
          <p:nvPr/>
        </p:nvSpPr>
        <p:spPr>
          <a:xfrm>
            <a:off x="2766960" y="317016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 of mand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1465200" y="206280"/>
            <a:ext cx="602604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-Knowled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3880" y="1995840"/>
            <a:ext cx="3088440" cy="4129920"/>
          </a:xfrm>
          <a:prstGeom prst="rect">
            <a:avLst/>
          </a:prstGeom>
          <a:noFill/>
          <a:ln w="57240">
            <a:solidFill>
              <a:srgbClr val="254061"/>
            </a:solidFill>
            <a:round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ditionally worthy of dignity by virtue of one’s birth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validation of self-wor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ulnerable to criticism and judg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e of well-being comes from with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ctive in social sett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4853160" y="1828800"/>
            <a:ext cx="3352680" cy="4446720"/>
          </a:xfrm>
          <a:custGeom>
            <a:avLst/>
            <a:gdLst>
              <a:gd name="textAreaLeft" fmla="*/ 163440 w 3352680"/>
              <a:gd name="textAreaRight" fmla="*/ 3189240 w 3352680"/>
              <a:gd name="textAreaTop" fmla="*/ 163440 h 4446720"/>
              <a:gd name="textAreaBottom" fmla="*/ 4283280 h 4446720"/>
            </a:gdLst>
            <a:ahLst/>
            <a:rect l="textAreaLeft" t="textAreaTop" r="textAreaRight" b="textAreaBottom"/>
            <a:pathLst>
              <a:path w="21600" h="28648">
                <a:moveTo>
                  <a:pt x="3600" y="0"/>
                </a:moveTo>
                <a:arcTo wR="3600" hR="3600" stAng="16200000" swAng="-5400000"/>
                <a:lnTo>
                  <a:pt x="0" y="25048"/>
                </a:lnTo>
                <a:arcTo wR="3600" hR="3600" stAng="10800000" swAng="-5400000"/>
                <a:lnTo>
                  <a:pt x="18000" y="28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ly worthy-dependent on validation from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validation of self-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lnerable to criticism &amp; jud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ks praise and approval for sense of well-b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ve in social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273120" y="104760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arts of the 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1700280" y="103356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048360" y="1063800"/>
            <a:ext cx="145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 Elements of Dig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3"/>
          <p:cNvSpPr/>
          <p:nvPr/>
        </p:nvSpPr>
        <p:spPr>
          <a:xfrm>
            <a:off x="738360" y="1593720"/>
            <a:ext cx="3528720" cy="4681800"/>
          </a:xfrm>
          <a:custGeom>
            <a:avLst/>
            <a:gdLst>
              <a:gd name="textAreaLeft" fmla="*/ 172080 w 3528720"/>
              <a:gd name="textAreaRight" fmla="*/ 3356640 w 3528720"/>
              <a:gd name="textAreaTop" fmla="*/ 172080 h 4681800"/>
              <a:gd name="textAreaBottom" fmla="*/ 4509720 h 4681800"/>
            </a:gdLst>
            <a:ahLst/>
            <a:rect l="textAreaLeft" t="textAreaTop" r="textAreaRight" b="textAreaBottom"/>
            <a:pathLst>
              <a:path w="21600" h="28658">
                <a:moveTo>
                  <a:pt x="3600" y="0"/>
                </a:moveTo>
                <a:arcTo wR="3600" hR="3600" stAng="16200000" swAng="-5400000"/>
                <a:lnTo>
                  <a:pt x="0" y="25058"/>
                </a:lnTo>
                <a:arcTo wR="3600" hR="3600" stAng="10800000" swAng="-5400000"/>
                <a:lnTo>
                  <a:pt x="18000" y="286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ptance of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4"/>
          <p:cNvSpPr/>
          <p:nvPr/>
        </p:nvSpPr>
        <p:spPr>
          <a:xfrm>
            <a:off x="4883040" y="1590840"/>
            <a:ext cx="3527640" cy="4681440"/>
          </a:xfrm>
          <a:custGeom>
            <a:avLst/>
            <a:gdLst>
              <a:gd name="textAreaLeft" fmla="*/ 172080 w 3527640"/>
              <a:gd name="textAreaRight" fmla="*/ 3355560 w 3527640"/>
              <a:gd name="textAreaTop" fmla="*/ 172080 h 4681440"/>
              <a:gd name="textAreaBottom" fmla="*/ 4509360 h 4681440"/>
            </a:gdLst>
            <a:ahLst/>
            <a:rect l="textAreaLeft" t="textAreaTop" r="textAreaRight" b="textAreaBottom"/>
            <a:pathLst>
              <a:path w="21600" h="28664">
                <a:moveTo>
                  <a:pt x="3600" y="0"/>
                </a:moveTo>
                <a:arcTo wR="3600" hR="3600" stAng="16200000" swAng="-5400000"/>
                <a:lnTo>
                  <a:pt x="0" y="25064"/>
                </a:lnTo>
                <a:arcTo wR="3600" hR="3600" stAng="10800000" swAng="-5400000"/>
                <a:lnTo>
                  <a:pt x="18000" y="28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efit of the Dou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 Temptations to Violate Dig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38360" y="1593720"/>
            <a:ext cx="3528720" cy="4681800"/>
          </a:xfrm>
          <a:custGeom>
            <a:avLst/>
            <a:gdLst>
              <a:gd name="textAreaLeft" fmla="*/ 172080 w 3528720"/>
              <a:gd name="textAreaRight" fmla="*/ 3356640 w 3528720"/>
              <a:gd name="textAreaTop" fmla="*/ 172080 h 4681800"/>
              <a:gd name="textAreaBottom" fmla="*/ 4509720 h 4681800"/>
            </a:gdLst>
            <a:ahLst/>
            <a:rect l="textAreaLeft" t="textAreaTop" r="textAreaRight" b="textAreaBottom"/>
            <a:pathLst>
              <a:path w="21600" h="28658">
                <a:moveTo>
                  <a:pt x="3600" y="0"/>
                </a:moveTo>
                <a:arcTo wR="3600" hR="3600" stAng="16200000" swAng="-5400000"/>
                <a:lnTo>
                  <a:pt x="0" y="25058"/>
                </a:lnTo>
                <a:arcTo wR="3600" hR="3600" stAng="10800000" swAng="-5400000"/>
                <a:lnTo>
                  <a:pt x="18000" y="286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Take The B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Save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Shirk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Lured By False Dig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Lured By False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4883040" y="1590840"/>
            <a:ext cx="3527640" cy="4681440"/>
          </a:xfrm>
          <a:custGeom>
            <a:avLst/>
            <a:gdLst>
              <a:gd name="textAreaLeft" fmla="*/ 172080 w 3527640"/>
              <a:gd name="textAreaRight" fmla="*/ 3355560 w 3527640"/>
              <a:gd name="textAreaTop" fmla="*/ 172080 h 4681440"/>
              <a:gd name="textAreaBottom" fmla="*/ 4509360 h 4681440"/>
            </a:gdLst>
            <a:ahLst/>
            <a:rect l="textAreaLeft" t="textAreaTop" r="textAreaRight" b="textAreaBottom"/>
            <a:pathLst>
              <a:path w="21600" h="28664">
                <a:moveTo>
                  <a:pt x="3600" y="0"/>
                </a:moveTo>
                <a:arcTo wR="3600" hR="3600" stAng="16200000" swAng="-5400000"/>
                <a:lnTo>
                  <a:pt x="0" y="25064"/>
                </a:lnTo>
                <a:arcTo wR="3600" hR="3600" stAng="10800000" swAng="-5400000"/>
                <a:lnTo>
                  <a:pt x="18000" y="286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Just Sit There And Tak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Assume You Are The Innocent Vic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Resist Feedback From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lame And Sham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Lured By False Inti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2297160" y="200160"/>
            <a:ext cx="4244760" cy="63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4:23:46Z</dcterms:created>
  <dc:creator>Donna Hicks</dc:creator>
  <dc:description/>
  <dc:language>en-US</dc:language>
  <cp:lastModifiedBy>Danelle Hannan</cp:lastModifiedBy>
  <cp:lastPrinted>2012-07-08T17:50:24Z</cp:lastPrinted>
  <dcterms:modified xsi:type="dcterms:W3CDTF">2013-01-24T14:59:16Z</dcterms:modified>
  <cp:revision>58</cp:revision>
  <dc:subject/>
  <dc:title>Dignity: The Essential Role in Plays in Resolving Conflict </dc:title>
</cp:coreProperties>
</file>