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C82B-3BCA-4894-8833-66D45B8C5E2F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937E-03F7-45D1-A230-EF42E7329EC9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1A6D-B729-4D2D-BF43-3771AC52150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2FF3-41B1-4978-8120-D7653B328F59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5685-CC07-43A2-BEF6-CE113B57BC88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EBB2-45F6-4A6A-8795-6CCF7B506BC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A8B1-F9A9-4EBA-BEF0-192E643A2A67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7065-12A9-4CF2-87B6-98009CA5DF97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00A7-1BAD-4984-8B9D-049A017754DB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4FC1-2FA3-4FCF-AE28-6066F5682652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D9BD-A32F-4646-AFB7-F03C9D2C3418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ACC2-1DE1-463F-910E-A909ED24EFD9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5F73-41FD-4A8D-BDF5-7E4A771BBA5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622-3E20-4A6A-B237-EADFAF117621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62BF-D94C-478C-B83D-C4AF3D32DFC3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8379-6411-4CC2-A6F4-275F0A2C775A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0CA5-016C-4A75-B6A1-E87B384F9C0F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264F-8C3D-4BF4-A10D-976110AFDD7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F9B5-142F-4625-87A9-A56498A71A5C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2CBD-FCDB-40DA-89F4-C71EA8D5689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191D-CCE9-4F07-B736-916586EA793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AE04-4FF9-4197-9FB6-4D11BE9C84D4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zsfghs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03C1-FEBA-45BF-BB97-CCE4DFE17CD6}" type="slidenum">
              <a:rPr b="0" lang="en-I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E9B-FACB-40BA-8340-0803C0B0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51A-96C5-4A02-A7AD-47BD1934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8D9-CC90-4C48-AB69-F3117924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564-94D2-470A-901F-135E24B7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B1D-EC59-4B3D-8B6E-89125E7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103-7968-4B8A-BDD6-E0F69EC7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098-BA0B-4F94-B5B4-C640F7CB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AFC-E73D-4B93-8340-288BF925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CA1-7977-46D0-90D8-83DBE76E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EE2-0804-4B40-B0A2-3F7CBA8B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95D-DEAD-4827-BD24-5ABBA765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B13-C357-4503-8F01-FDD088E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EF0-AB08-4BF2-822C-786349731BBC}" type="datetime">
              <a:rPr b="0" lang="en-IE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60BD-38BF-4AE4-B19D-3253F19CF802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teracy Provision in Dublin Pri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tephen O’Conn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Literac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cy Network CDVEC P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presentative from each Dublin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eet each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hare ideas/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4"/>
          <p:cNvSpPr/>
          <p:nvPr/>
        </p:nvSpPr>
        <p:spPr>
          <a:xfrm>
            <a:off x="428760" y="2143080"/>
            <a:ext cx="7643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85960" y="428760"/>
            <a:ext cx="5214960" cy="600048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8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14240" y="928800"/>
            <a:ext cx="7643880" cy="537660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1785960" y="57168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e-Level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terac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4857480" cy="5322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324000" y="1844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evel 1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250920" y="766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Level 2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1860480"/>
            <a:ext cx="5429160" cy="435456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Level 3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4" descr=""/>
          <p:cNvPicPr/>
          <p:nvPr/>
        </p:nvPicPr>
        <p:blipFill>
          <a:blip r:embed="rId1"/>
          <a:stretch/>
        </p:blipFill>
        <p:spPr>
          <a:xfrm>
            <a:off x="2714760" y="1600200"/>
            <a:ext cx="3070080" cy="5170320"/>
          </a:xfrm>
          <a:prstGeom prst="rect">
            <a:avLst/>
          </a:prstGeom>
          <a:ln w="0">
            <a:noFill/>
          </a:ln>
        </p:spPr>
      </p:pic>
      <p:sp>
        <p:nvSpPr>
          <p:cNvPr id="9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ssessment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2428920" y="1444680"/>
            <a:ext cx="3784680" cy="512928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rogress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4" descr=""/>
          <p:cNvPicPr/>
          <p:nvPr/>
        </p:nvPicPr>
        <p:blipFill>
          <a:blip r:embed="rId1"/>
          <a:stretch/>
        </p:blipFill>
        <p:spPr>
          <a:xfrm>
            <a:off x="584280" y="1214280"/>
            <a:ext cx="7394400" cy="491184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ndard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- prison m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cess (Wheatfiel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ocation (appropriate tu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llow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teracy Provision in Dublin Prison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hole – school, student-centr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very teacher is a literacy teacher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an sometimes lead to mis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mplications for method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enefits/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tter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rgani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inu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e by To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Brian Kenea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Mountjoy Education Un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Robbie Robinson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Wheatfield Education Un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oe byToe.jpg"/>
          <p:cNvPicPr/>
          <p:nvPr/>
        </p:nvPicPr>
        <p:blipFill>
          <a:blip r:embed="rId1"/>
          <a:stretch/>
        </p:blipFill>
        <p:spPr>
          <a:xfrm rot="5964000">
            <a:off x="5986440" y="-16920"/>
            <a:ext cx="231768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e by To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er tu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e reading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specialist skills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ssons sh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rner is in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e by To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ountjoy Pilot proj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an.-J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 morning each in main prison &amp; medical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ined 10 men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 student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e by To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ountjoy Pilot proj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we learn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od response from mentors and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nover an 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dicate mor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eed to establish study areas on landings: resource im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eractive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Jimmy O’Rour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elen Caw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rbour Hill Education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teracy Provision in Dublin Prison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ch education unit produces an annual Literacy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achers from the various centres meet to share materials, ideas and identify CPD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teracy Provision in Dublin Prison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 of assessment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n aid to teachers in developing an appropriate learning strategy with the learn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teracy Provision in Dublin Prison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Integration of digital lite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uld be You’ (1990’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active Literacy’ (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teracy Provision in Dublin Prison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ach teacher undertakes CPD in relation to integrating literacy work into their subject are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teracy Provision in Dublin Prison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Formal Certification &amp; Prog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udents encouraged to progress towards formal recognition when appropri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s with literacy schemes in the commun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terac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obbie Rob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Wheatfield Education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Literacy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cy Network (CDVEC Prison Edu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ssessment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istributed through Prisons nati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enefits/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CDVEC Educational Service to Pr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2:19:09Z</dcterms:created>
  <dc:creator>rjrobinson</dc:creator>
  <dc:description/>
  <dc:language>en-US</dc:language>
  <cp:lastModifiedBy>Linda</cp:lastModifiedBy>
  <dcterms:modified xsi:type="dcterms:W3CDTF">2011-10-06T13:22:17Z</dcterms:modified>
  <cp:revision>37</cp:revision>
  <dc:subject/>
  <dc:title>Literacy Assesment</dc:title>
</cp:coreProperties>
</file>