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BF6A-2004-4E5E-AF77-B0835371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8B6-BBD8-43B6-8397-9CEFA7D4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CAA-206B-4615-8105-FABC2F08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F1A-48B8-4B80-B7EB-2A37BB7F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B506-95B3-472B-84C6-D3142DC2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8058-D5C7-4849-B728-84BF6DE0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43FB-4DA2-480B-99C1-49514B0D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4B34-56A1-4A31-B7D3-48B557F6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D505-F8E2-47F4-98D7-17AFB230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7B01-2276-4A8E-9A93-C1767A1B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14CE-44AB-4286-9D8B-B1357580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5598-FF8C-417F-B6A2-C402DFD6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84D-778D-4155-960D-1A069C8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CAC3-7C4A-4E4E-AB61-E7F93A24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B0AB-BC13-4CEE-8CBD-BE50BC97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23A2-F69F-417D-B733-224958B7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4C28-7D3B-45AF-B0E3-43B35C31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2207E-BDFF-48D5-887C-4785F02D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05B1-05D2-41CA-9086-CA781668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95E9-F68E-4F94-9C70-2D83E60E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C351-338B-44FE-B5F9-9BC93118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503C2-D276-4647-8C6B-76D1B57F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B1A-598E-4C78-ABF5-D6D70003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CEF3-445A-4515-B57C-B2C5DF1E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162DB-DB07-4D05-9D24-775BDAC5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2EB7-AED5-47B0-8CDA-4DEC87D1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4ACB2-1736-4F01-929D-85C9D125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B3FD-6267-49A8-BE39-6FBA33C6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6C2C-94E6-4DB9-98F9-2D38235F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C233A-C10F-4793-87AD-C161C0F1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180B-2F22-48B2-A34C-7AD8878F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20C7-D4F0-49E2-84C1-1A9ACC90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9450D-0E49-49FC-9B65-BA109DAE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B79-21B0-42EF-840D-7B681E7F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A6F09-9621-468C-9E59-3EC8936E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B8D25-6AAD-417B-ABDE-E686EE75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644D7-CF2D-44F1-B574-28970652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C250-1D35-48B6-9949-68D9AF0C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7B551-3DE6-4FB7-96B5-2DF43FD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B210-DC40-4383-A33C-7598D22D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32B6-277A-4FFB-B0E7-582FEC41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50BDF-094B-4011-9241-22884134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21D7-CEA6-40C3-9D9D-9526D950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18DC-E464-4BBB-822C-1D547516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90B-BD57-43E3-BE54-07A4C9C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7D11-A7B5-471B-B064-50F2B667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EB97D-D18A-4E56-9896-FBDB5E4E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F48D5-3958-4F65-80D2-EC066F7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281C9-32D3-4DFB-AEEB-C0C7D4E1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C1B5F-3A54-4FD4-8AA3-0084B675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5AB68-2E4E-4BCE-939A-060F6B74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615F3-4142-4931-83FC-BCCAB71F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5BBB5-68D3-48E9-A618-99817351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4BD88-8F95-4CB7-ADE3-7E7055BD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DC8B3-01AE-4EA1-9EE6-8FA84BA8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819-DC0C-4029-8A68-207112A0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87CB9-8481-4FA9-87BC-123595A7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3CCF-35BA-40AB-B2E9-71C907D7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345E6-1813-4845-A24F-7C778B38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977F0-2BFD-4E32-B0F1-53E824D2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467C-A8DC-480E-8ED5-25CA17F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7177-4058-435B-B546-00F54879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5F7D-0CA0-4650-B0DA-ECDF28C2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3E88D-2C66-4661-971C-4C347EAC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29AC1-06FC-4965-941F-C1D9F6A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7FE37-B9D0-4A30-B073-4AC4F5C7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5B4-C642-40B6-BA64-4872CF4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320DC-D02A-4F6B-9124-6483B456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7A69-F69C-488F-99B2-7A6EAE0B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A486D-890D-4D1B-82D3-C9324FB6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D395-7119-4A0D-915E-9B498C6E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2157-CE74-4192-8D0D-3B4D03A0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15B93-D292-400C-9D56-5C9C2B65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05030-86F9-4213-8FA8-69E2DDE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C6D6-12C7-489F-9FF0-F8B64A4D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DE8CE-5FAB-4F47-9299-642CB11A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4DEC2-2A53-4787-B3C2-100E1E19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7A0-C03E-458D-A721-5A20659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7C30-0B1D-43EF-AFEC-A3E84E12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58068-2C1E-4C09-9A19-0BBF076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38BA0-B82B-4881-A25F-A9E6CD39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C12D-0905-4750-97B4-62379C4E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A7697-47AA-4811-B99E-3126DB0C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CD697-D483-40F4-B1D3-959E70F4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4309C-2F7F-4635-BF70-C5ADA3C7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1A1A4-B055-410D-A5DF-44E05C19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4DD00-8B50-42B0-B2C8-1322BCBD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F60A-FAB4-45BB-A2B2-DCF464A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533-4BEC-4C15-BA76-45D0A89D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7993A-27F5-4176-998B-C9D974F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2016E-ED07-4DC1-871E-AB26B34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E071F-78F1-4E7E-9139-DEE500F2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97DE2-CB04-4A0F-9727-9F76F90A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70986-802E-4B5F-BDBA-50EBDE88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E1808-E570-4255-B9D7-514DD67A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3A454-018A-4606-8D20-4094D436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3131-CFB9-4D32-8A04-F1E7F2B7C4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1628-4076-43AF-9AE8-4E6374CA4A83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DF4F-192A-4294-BAF7-2D5244A4D85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FFE8-358C-48A1-83E5-09143DA00EE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17E0-C62E-4601-B07F-D0D444B3F8C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AA9B-5B93-48FF-9CD3-EE6E62894E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8753-9BE9-4526-BEF7-3198BBF3729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D0DD-5590-4FCB-9243-C9822EE2100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adstack@irishprisons.i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9040" y="1390680"/>
            <a:ext cx="7772400" cy="2529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64646"/>
                </a:solidFill>
                <a:latin typeface="Lucida Sans Unicode"/>
              </a:rPr>
              <a:t>Austin Sta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64646"/>
                </a:solidFill>
                <a:latin typeface="Lucida Sans Unicode"/>
              </a:rPr>
              <a:t>Asst. Governor Wheatfield Pri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Footer Placeholder 5"/>
          <p:cNvSpPr/>
          <p:nvPr/>
        </p:nvSpPr>
        <p:spPr>
          <a:xfrm>
            <a:off x="3708360" y="6492960"/>
            <a:ext cx="230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8f0f4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Straight Connector 8"/>
          <p:cNvSpPr/>
          <p:nvPr/>
        </p:nvSpPr>
        <p:spPr>
          <a:xfrm>
            <a:off x="1187280" y="3500280"/>
            <a:ext cx="669780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6" descr="Logo 1.JPG"/>
          <p:cNvPicPr/>
          <p:nvPr/>
        </p:nvPicPr>
        <p:blipFill>
          <a:blip r:embed="rId2"/>
          <a:stretch/>
        </p:blipFill>
        <p:spPr>
          <a:xfrm>
            <a:off x="0" y="5572080"/>
            <a:ext cx="14382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700" spc="-1" strike="noStrike">
                <a:solidFill>
                  <a:srgbClr val="000000"/>
                </a:solidFill>
                <a:latin typeface="Lucida Sans Unicode"/>
              </a:rPr>
              <a:t>Timel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Awareness Training- end of Feb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RJ Facilitator Training- mid March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Governor Training day- end of March 20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Prisoner information- end of March 201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Launch- Start of April 201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9" name="Straight Connector 4"/>
          <p:cNvSpPr/>
          <p:nvPr/>
        </p:nvSpPr>
        <p:spPr>
          <a:xfrm>
            <a:off x="500040" y="1143000"/>
            <a:ext cx="521496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TextBox 7"/>
          <p:cNvSpPr/>
          <p:nvPr/>
        </p:nvSpPr>
        <p:spPr>
          <a:xfrm>
            <a:off x="4295880" y="6510240"/>
            <a:ext cx="171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4429080" y="62150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TextBox 9"/>
          <p:cNvSpPr/>
          <p:nvPr/>
        </p:nvSpPr>
        <p:spPr>
          <a:xfrm>
            <a:off x="4286160" y="6286680"/>
            <a:ext cx="171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TextBox 10"/>
          <p:cNvSpPr/>
          <p:nvPr/>
        </p:nvSpPr>
        <p:spPr>
          <a:xfrm>
            <a:off x="4143240" y="6357960"/>
            <a:ext cx="207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TextBox 11"/>
          <p:cNvSpPr/>
          <p:nvPr/>
        </p:nvSpPr>
        <p:spPr>
          <a:xfrm>
            <a:off x="4143240" y="6357960"/>
            <a:ext cx="171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4000680" y="6611760"/>
            <a:ext cx="25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Evalu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Fix the proble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Continue to Research/Network/Lear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Roll out to other pris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Promote RJ on an ongoing ba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Footer Placeholder 2"/>
          <p:cNvSpPr/>
          <p:nvPr/>
        </p:nvSpPr>
        <p:spPr>
          <a:xfrm>
            <a:off x="3786120" y="6492960"/>
            <a:ext cx="2373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19" name="Straight Connector 5"/>
          <p:cNvSpPr/>
          <p:nvPr/>
        </p:nvSpPr>
        <p:spPr>
          <a:xfrm>
            <a:off x="571680" y="1143000"/>
            <a:ext cx="478620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2"/>
          <p:cNvSpPr/>
          <p:nvPr/>
        </p:nvSpPr>
        <p:spPr>
          <a:xfrm>
            <a:off x="3571920" y="6492960"/>
            <a:ext cx="2517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2195640" y="134136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r More In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Straight Connector 5"/>
          <p:cNvSpPr/>
          <p:nvPr/>
        </p:nvSpPr>
        <p:spPr>
          <a:xfrm>
            <a:off x="2987640" y="1773360"/>
            <a:ext cx="338472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TextBox 9"/>
          <p:cNvSpPr/>
          <p:nvPr/>
        </p:nvSpPr>
        <p:spPr>
          <a:xfrm>
            <a:off x="2771640" y="2349360"/>
            <a:ext cx="4176720" cy="15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e-mail: </a:t>
            </a:r>
            <a:r>
              <a:rPr b="0" lang="en-GB" sz="1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adstack@irishprisons.i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Phone: 01-620948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Mobile: 087-9855302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Picture 2" descr="C:\Users\User\Documents\Twitter-Logo.jpg"/>
          <p:cNvPicPr/>
          <p:nvPr/>
        </p:nvPicPr>
        <p:blipFill>
          <a:blip r:embed="rId2"/>
          <a:stretch/>
        </p:blipFill>
        <p:spPr>
          <a:xfrm>
            <a:off x="2843280" y="3284640"/>
            <a:ext cx="441360" cy="4316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1"/>
          <p:cNvSpPr/>
          <p:nvPr/>
        </p:nvSpPr>
        <p:spPr>
          <a:xfrm>
            <a:off x="3348000" y="3284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@adstack68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Picture 3" descr="C:\Users\User\Documents\Linked In logo.jpg"/>
          <p:cNvPicPr/>
          <p:nvPr/>
        </p:nvPicPr>
        <p:blipFill>
          <a:blip r:embed="rId3"/>
          <a:stretch/>
        </p:blipFill>
        <p:spPr>
          <a:xfrm>
            <a:off x="2843280" y="3789360"/>
            <a:ext cx="504720" cy="503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4"/>
          <p:cNvSpPr/>
          <p:nvPr/>
        </p:nvSpPr>
        <p:spPr>
          <a:xfrm>
            <a:off x="3419640" y="3860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Austin Stac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TextBox 15"/>
          <p:cNvSpPr/>
          <p:nvPr/>
        </p:nvSpPr>
        <p:spPr>
          <a:xfrm>
            <a:off x="2627280" y="530064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Strategic Action 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Lucida Sans Unicode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IE" sz="2000" spc="-1" strike="noStrike">
                <a:solidFill>
                  <a:srgbClr val="000000"/>
                </a:solidFill>
                <a:latin typeface="Lucida Sans Unicode"/>
              </a:rPr>
              <a:t>We will examine the possibility of introducing on a pilot basis, restorative justice practices in a prisons context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Lucida Sans Unicode"/>
              </a:rPr>
              <a:t>Strategic Outcom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To provide prisoners with another avenue t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Address &amp; take responsibility for their offending behavio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Make reparations to the communit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Lucida Sans Unicode"/>
              </a:rPr>
              <a:t>Raise victim awareness among the prison popul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3924360" y="6453360"/>
            <a:ext cx="2230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3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8" name="Straight Connector 5"/>
          <p:cNvSpPr/>
          <p:nvPr/>
        </p:nvSpPr>
        <p:spPr>
          <a:xfrm>
            <a:off x="428760" y="1071720"/>
            <a:ext cx="73580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Lucida Sans Unicode"/>
              </a:rPr>
              <a:t>Establishment of a Strategy Tea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Lucida Sans Unicode"/>
              </a:rPr>
              <a:t>Pilot Locations: Wheatfield &amp; Dochá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Lucida Sans Unicode"/>
              </a:rPr>
              <a:t>Research &amp; Networking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Lucida Sans Unicode"/>
              </a:rPr>
              <a:t>RJ Polic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Lucida Sans Unicode"/>
              </a:rPr>
              <a:t>Training Pla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0000"/>
                </a:solidFill>
                <a:latin typeface="Lucida Sans Unicode"/>
              </a:rPr>
              <a:t>Governor Grou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Footer Placeholder 2"/>
          <p:cNvSpPr/>
          <p:nvPr/>
        </p:nvSpPr>
        <p:spPr>
          <a:xfrm>
            <a:off x="3780000" y="6492960"/>
            <a:ext cx="223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Straight Connector 5"/>
          <p:cNvSpPr/>
          <p:nvPr/>
        </p:nvSpPr>
        <p:spPr>
          <a:xfrm>
            <a:off x="395280" y="1125360"/>
            <a:ext cx="532908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Planning Ph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J Multi-Disciplinary Gro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RJ Practices can be delive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raining Requir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ich parts of the Prison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5" name="Straight Connector 4"/>
          <p:cNvSpPr/>
          <p:nvPr/>
        </p:nvSpPr>
        <p:spPr>
          <a:xfrm>
            <a:off x="539640" y="1052640"/>
            <a:ext cx="518472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3851280" y="6611760"/>
            <a:ext cx="23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RJ Multi-Disciplinary Gro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Govern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/Govern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sycholo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rob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haplain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9" name="Straight Connector 4"/>
          <p:cNvSpPr/>
          <p:nvPr/>
        </p:nvSpPr>
        <p:spPr>
          <a:xfrm>
            <a:off x="539640" y="1125360"/>
            <a:ext cx="525636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3929040" y="6611760"/>
            <a:ext cx="25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Lucida Sans Unicode"/>
              </a:rPr>
              <a:t>What RJ Practices can be deliver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onflict Awareness/Resolu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P19s (Disciplinary Adjudication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ommunity Repa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Victim/Offender Conferencing (review after 12 month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3" name="Straight Connector 4"/>
          <p:cNvSpPr/>
          <p:nvPr/>
        </p:nvSpPr>
        <p:spPr>
          <a:xfrm>
            <a:off x="539640" y="1052640"/>
            <a:ext cx="518472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4000680" y="6611760"/>
            <a:ext cx="23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700" spc="-1" strike="noStrike">
                <a:solidFill>
                  <a:srgbClr val="000000"/>
                </a:solidFill>
                <a:latin typeface="Lucida Sans Unicode"/>
              </a:rPr>
              <a:t>Training Requir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One Day Conflict Awareness/RJ Aware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Three Day RJ Conference Facilitator Tr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One Day Governor Tr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Prisoner Information/Aware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7" name="Straight Connector 4"/>
          <p:cNvSpPr/>
          <p:nvPr/>
        </p:nvSpPr>
        <p:spPr>
          <a:xfrm>
            <a:off x="500040" y="1071720"/>
            <a:ext cx="514368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3929040" y="6611760"/>
            <a:ext cx="25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700" spc="-1" strike="noStrike">
                <a:solidFill>
                  <a:srgbClr val="000000"/>
                </a:solidFill>
                <a:latin typeface="Lucida Sans Unicode"/>
              </a:rPr>
              <a:t>Training Requirements- 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Multi-D Gro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Class Offic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Asst. Chief Offic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Chief officers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Governo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1" name="Straight Connector 4"/>
          <p:cNvSpPr/>
          <p:nvPr/>
        </p:nvSpPr>
        <p:spPr>
          <a:xfrm>
            <a:off x="571680" y="1143000"/>
            <a:ext cx="514332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3714840" y="6611760"/>
            <a:ext cx="26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700" spc="-1" strike="noStrike">
                <a:solidFill>
                  <a:srgbClr val="000000"/>
                </a:solidFill>
                <a:latin typeface="Lucida Sans Unicode"/>
              </a:rPr>
              <a:t>Which Parts of the Pri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5G (30 inmat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10F (30 inmat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Lucida Sans Unicode"/>
              </a:rPr>
              <a:t>10G (30 inmates) after initial 3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05" name="Straight Connector 4"/>
          <p:cNvSpPr/>
          <p:nvPr/>
        </p:nvSpPr>
        <p:spPr>
          <a:xfrm>
            <a:off x="428760" y="1143000"/>
            <a:ext cx="52862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TextBox 6"/>
          <p:cNvSpPr/>
          <p:nvPr/>
        </p:nvSpPr>
        <p:spPr>
          <a:xfrm>
            <a:off x="3929040" y="66117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USTIN STACK  ACJRD 21/01/13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2T17:08:28Z</dcterms:created>
  <dc:creator>Austin</dc:creator>
  <dc:description/>
  <dc:language>en-US</dc:language>
  <cp:lastModifiedBy>Danelle Hannan</cp:lastModifiedBy>
  <dcterms:modified xsi:type="dcterms:W3CDTF">2013-01-24T14:21:51Z</dcterms:modified>
  <cp:revision>28</cp:revision>
  <dc:subject/>
  <dc:title>Restorative Justice and The Irish Prison Service</dc:title>
</cp:coreProperties>
</file>