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6" name="Group 2"/>
          <p:cNvGrpSpPr/>
          <p:nvPr/>
        </p:nvGrpSpPr>
        <p:grpSpPr>
          <a:xfrm>
            <a:off x="0" y="0"/>
            <a:ext cx="6796080" cy="9925200"/>
            <a:chOff x="0" y="0"/>
            <a:chExt cx="6796080" cy="992520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6796080" cy="9925200"/>
            </a:xfrm>
            <a:prstGeom prst="rect">
              <a:avLst/>
            </a:prstGeom>
            <a:solidFill>
              <a:srgbClr val="1d4e6f"/>
            </a:solidFill>
            <a:ln w="9360">
              <a:solidFill>
                <a:srgbClr val="1d4e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Rectangle 4"/>
            <p:cNvSpPr/>
            <p:nvPr/>
          </p:nvSpPr>
          <p:spPr>
            <a:xfrm>
              <a:off x="263160" y="244080"/>
              <a:ext cx="6264360" cy="943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0" y="0"/>
              <a:ext cx="705960" cy="744120"/>
            </a:xfrm>
            <a:prstGeom prst="rect">
              <a:avLst/>
            </a:prstGeom>
            <a:solidFill>
              <a:srgbClr val="1d4e6f"/>
            </a:solidFill>
            <a:ln w="9360">
              <a:solidFill>
                <a:srgbClr val="1d4e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Oval 6"/>
            <p:cNvSpPr/>
            <p:nvPr/>
          </p:nvSpPr>
          <p:spPr>
            <a:xfrm>
              <a:off x="263160" y="244080"/>
              <a:ext cx="902880" cy="99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6089760" y="9198000"/>
              <a:ext cx="705960" cy="726840"/>
            </a:xfrm>
            <a:prstGeom prst="rect">
              <a:avLst/>
            </a:prstGeom>
            <a:solidFill>
              <a:srgbClr val="1d4e6f"/>
            </a:solidFill>
            <a:ln w="9360">
              <a:solidFill>
                <a:srgbClr val="1d4e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Oval 8"/>
            <p:cNvSpPr/>
            <p:nvPr/>
          </p:nvSpPr>
          <p:spPr>
            <a:xfrm>
              <a:off x="5624640" y="8685360"/>
              <a:ext cx="902880" cy="99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3" name="Text Box 9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200" spc="-1" strike="noStrike">
                <a:solidFill>
                  <a:srgbClr val="693f4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31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3"/>
          </p:nvPr>
        </p:nvSpPr>
        <p:spPr>
          <a:xfrm>
            <a:off x="5513040" y="9429840"/>
            <a:ext cx="12826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DF7618F-7735-44B5-96EC-9E634771A444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>
            <a:off x="5513400" y="9429840"/>
            <a:ext cx="1282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6B45843-4669-4048-AA86-0AA542722F85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5513400" y="9429840"/>
            <a:ext cx="1284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5AA23A-A486-4034-B0A9-6AAF31E7AE9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4"/>
          <p:cNvSpPr/>
          <p:nvPr/>
        </p:nvSpPr>
        <p:spPr>
          <a:xfrm>
            <a:off x="5513400" y="9429840"/>
            <a:ext cx="1282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03675C6-DFFA-4E2F-AB76-3AB0807662ED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513400" y="9429840"/>
            <a:ext cx="1284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2EA7D5-7D23-4962-BF39-4ECDE86FA5D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4"/>
          <p:cNvSpPr/>
          <p:nvPr/>
        </p:nvSpPr>
        <p:spPr>
          <a:xfrm>
            <a:off x="5513400" y="9429840"/>
            <a:ext cx="1282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90FCA6E-B1CE-422E-9C12-C4CC4A6E747F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5513400" y="9429840"/>
            <a:ext cx="1284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5DAF1B-893C-4BDE-AD4B-7FF8EA5D984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4"/>
          <p:cNvSpPr/>
          <p:nvPr/>
        </p:nvSpPr>
        <p:spPr>
          <a:xfrm>
            <a:off x="5513400" y="9429840"/>
            <a:ext cx="1282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B8077EE-40BC-4678-AA78-2DC62E4F9D6B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513400" y="9429840"/>
            <a:ext cx="1284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A51747-E8CD-4FB7-B3FD-1B3A7743FCE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4"/>
          <p:cNvSpPr/>
          <p:nvPr/>
        </p:nvSpPr>
        <p:spPr>
          <a:xfrm>
            <a:off x="5513400" y="9429840"/>
            <a:ext cx="1282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D5CDA3D-D76C-4C9D-BA10-E2F54A46EFAB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513400" y="9429840"/>
            <a:ext cx="12841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D0EA78-E1E4-46F0-9A9D-B048935FFDB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084-906C-43AC-A17D-A0082B40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4BD-52E5-4796-9806-92010806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185-5CA7-4385-84E5-A14332A5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4E9-263F-4F21-842F-9DE1699A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3B93-8FF8-4976-9005-3A2C84F05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7017-FF05-458B-8C66-FC60C3D9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00AC-55CF-47F1-9A7C-2DED0039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D7F5-8AAD-427D-9204-D85C39BE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BC35-FAA3-4BFC-A977-74B1047C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5C60-2302-45F2-A093-E6E03D34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3EB0-5209-4A6A-BC6E-383D9D71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3F6-66DA-43FB-BB0E-83406075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B6BB-4F24-4227-BF49-199D3B8D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8344-F427-4EB2-9160-39ACEFA8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367C-9C96-45FB-98CC-DD5FA74A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F5E9-092C-4134-8F60-4957FAAB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3292-F168-4D30-9793-9DB2E56E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76630-241A-4CF1-8C56-8EB2F0AA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902F-4962-4B8C-A224-3BF4AC69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8A1F-14AB-49E7-9C04-99B03EA6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BB38-E537-4714-8394-FB245C02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CD2A-C3E1-49F2-B742-37BC3266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15E8-1EC2-42FB-B7A3-B2AC8BE7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9503-6DCF-4B7B-93DC-F4946756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4D00-DF5E-4E8B-8719-97A64625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1A5A-B8E0-4AA4-ADBF-55E38A24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B333-7DC2-492F-9609-52BFFB63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5B884-E2C5-4423-975A-5B3EBBE8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6E7D-7A39-48D3-8D08-0DB6918E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7DB4-A49D-4CBA-A589-7FD0CCEC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1001-75B3-46CB-B3E9-F894CD81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FCAA8-99EB-4C0A-8DCE-131CE751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2BA88-39F1-4B74-9421-BE1F0B22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CDC-4116-4725-9AE7-FA491390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AC64C-72EA-44BA-984E-1F7BDE87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8E3BB-CF6B-4A42-A8C2-6D791C93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E60EB-4632-42AD-91F9-E89C75A8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B5A88-E045-4701-8D9E-081E3531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92769-578C-4EF7-B373-82C4C0D6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05DD-FA41-427A-AE4A-59C8F6FE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8EEEC-8694-4287-A1BB-3A7CEB61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CD069-BD94-4CA7-BEFB-47D5A53D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A2C89-EAD1-4131-9270-94A85F9F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84F-B7DE-46AC-9771-C19152CC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4EC-6FD6-4F1B-9DB8-D683074D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BD18-1BF5-47E2-88C8-4DFCA25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5FD-61DB-4616-9C9B-9DF6FA17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B95-9BC2-4114-9190-C83A15B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IPRT Ppt Template.jpg"/>
          <p:cNvPicPr/>
          <p:nvPr/>
        </p:nvPicPr>
        <p:blipFill>
          <a:blip r:embed="rId2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504960" y="63244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693f46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693f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5181120" y="64008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924680" y="632448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693f46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71F37E-D280-4696-BD53-EFAFA81F1722}" type="slidenum">
              <a:rPr b="0" lang="en-GB" sz="1200" spc="-1" strike="noStrike">
                <a:solidFill>
                  <a:srgbClr val="693f4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93f4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93f4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93f4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93f4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93f4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99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99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3f4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IPRT Ppt Template.jpg"/>
          <p:cNvPicPr/>
          <p:nvPr/>
        </p:nvPicPr>
        <p:blipFill>
          <a:blip r:embed="rId2"/>
          <a:stretch/>
        </p:blipFill>
        <p:spPr>
          <a:xfrm>
            <a:off x="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3504960" y="63244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693f46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693f4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5181120" y="64008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7924680" y="632448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693f46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98A4DB-AF6E-49CC-9133-D38DDC085D5D}" type="slidenum">
              <a:rPr b="0" lang="en-GB" sz="1200" spc="-1" strike="noStrike">
                <a:solidFill>
                  <a:srgbClr val="693f4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93f4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93f4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93f4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93f4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93f4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99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99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3f4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d4e6f"/>
            </a:solidFill>
            <a:ln w="0">
              <a:solidFill>
                <a:srgbClr val="1d4e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Rectangle 4"/>
            <p:cNvSpPr/>
            <p:nvPr/>
          </p:nvSpPr>
          <p:spPr>
            <a:xfrm>
              <a:off x="266760" y="228600"/>
              <a:ext cx="8610480" cy="6400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5"/>
            <p:cNvSpPr/>
            <p:nvPr/>
          </p:nvSpPr>
          <p:spPr>
            <a:xfrm>
              <a:off x="0" y="0"/>
              <a:ext cx="712800" cy="685800"/>
            </a:xfrm>
            <a:prstGeom prst="rect">
              <a:avLst/>
            </a:prstGeom>
            <a:solidFill>
              <a:srgbClr val="1d4e6f"/>
            </a:solidFill>
            <a:ln w="9360">
              <a:solidFill>
                <a:srgbClr val="1d4e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8427960" y="6180120"/>
              <a:ext cx="712800" cy="669960"/>
            </a:xfrm>
            <a:prstGeom prst="rect">
              <a:avLst/>
            </a:prstGeom>
            <a:solidFill>
              <a:srgbClr val="1d4e6f"/>
            </a:solidFill>
            <a:ln w="9360">
              <a:solidFill>
                <a:srgbClr val="1d4e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Oval 7"/>
            <p:cNvSpPr/>
            <p:nvPr/>
          </p:nvSpPr>
          <p:spPr>
            <a:xfrm>
              <a:off x="266760" y="228600"/>
              <a:ext cx="914400" cy="914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7956720" y="571176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91" name="Picture 22" descr="C:\Documents and Settings\Rick Lines\Desktop\My Pictures\iprt_logo.jpg"/>
          <p:cNvPicPr/>
          <p:nvPr/>
        </p:nvPicPr>
        <p:blipFill>
          <a:blip r:embed="rId2"/>
          <a:stretch/>
        </p:blipFill>
        <p:spPr>
          <a:xfrm>
            <a:off x="533520" y="380880"/>
            <a:ext cx="1904760" cy="80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IPRT Ppt Template.jpg"/>
          <p:cNvPicPr/>
          <p:nvPr/>
        </p:nvPicPr>
        <p:blipFill>
          <a:blip r:embed="rId3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93f4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93f4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93f4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93f4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93f4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99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99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3f4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693f46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693f4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693f46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7680D0-6DBE-4279-8C84-27B41F20FE6F}" type="slidenum">
              <a:rPr b="0" lang="en-GB" sz="1400" spc="-1" strike="noStrike">
                <a:solidFill>
                  <a:srgbClr val="693f4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1d4e6f"/>
            </a:solidFill>
            <a:ln w="0">
              <a:solidFill>
                <a:srgbClr val="1d4e6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>
              <a:off x="266760" y="228600"/>
              <a:ext cx="8610480" cy="6400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0" y="0"/>
              <a:ext cx="712800" cy="685800"/>
            </a:xfrm>
            <a:prstGeom prst="rect">
              <a:avLst/>
            </a:prstGeom>
            <a:solidFill>
              <a:srgbClr val="1d4e6f"/>
            </a:solidFill>
            <a:ln w="9360">
              <a:solidFill>
                <a:srgbClr val="1d4e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8427960" y="6180120"/>
              <a:ext cx="712800" cy="669960"/>
            </a:xfrm>
            <a:prstGeom prst="rect">
              <a:avLst/>
            </a:prstGeom>
            <a:solidFill>
              <a:srgbClr val="1d4e6f"/>
            </a:solidFill>
            <a:ln w="9360">
              <a:solidFill>
                <a:srgbClr val="1d4e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66760" y="228600"/>
              <a:ext cx="914400" cy="914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Oval 8"/>
            <p:cNvSpPr/>
            <p:nvPr/>
          </p:nvSpPr>
          <p:spPr>
            <a:xfrm>
              <a:off x="7956720" y="571176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41" name="Picture 22" descr="C:\Documents and Settings\Rick Lines\Desktop\My Pictures\iprt_logo.jpg"/>
          <p:cNvPicPr/>
          <p:nvPr/>
        </p:nvPicPr>
        <p:blipFill>
          <a:blip r:embed="rId2"/>
          <a:stretch/>
        </p:blipFill>
        <p:spPr>
          <a:xfrm>
            <a:off x="533520" y="380880"/>
            <a:ext cx="1904760" cy="809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IPRT Ppt Template.jpg"/>
          <p:cNvPicPr/>
          <p:nvPr/>
        </p:nvPicPr>
        <p:blipFill>
          <a:blip r:embed="rId3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93f4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93f4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93f4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693f4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93f4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99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99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3f4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3f4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693f46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693f4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693f46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E3AED3-4513-4DAB-B061-4EB331567499}" type="slidenum">
              <a:rPr b="0" lang="en-GB" sz="1400" spc="-1" strike="noStrike">
                <a:solidFill>
                  <a:srgbClr val="693f4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500040" y="1785960"/>
            <a:ext cx="8001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it’s like stepping on a land-mine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Post-release integration of prisoners in Irel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685800" y="3857760"/>
            <a:ext cx="74674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IE" sz="2400" spc="-1" strike="noStrike">
                <a:solidFill>
                  <a:srgbClr val="990000"/>
                </a:solidFill>
                <a:latin typeface="Calibri"/>
              </a:rPr>
              <a:t>Agnieszka Martynowic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IE" sz="2400" spc="-1" strike="noStrike">
                <a:solidFill>
                  <a:srgbClr val="990000"/>
                </a:solidFill>
                <a:latin typeface="Calibri"/>
              </a:rPr>
              <a:t>Irish Penal Reform Tru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990000"/>
                </a:solidFill>
                <a:latin typeface="Calibri"/>
                <a:ea typeface="Arial"/>
              </a:rPr>
              <a:t>July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824280" y="32194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228600" y="1600200"/>
            <a:ext cx="8610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280" y="1496880"/>
            <a:ext cx="876312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iew of literature; legislation; policy and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views with statutory ag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views with voluntary sector provi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groups with former prison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based - looking at service provision not a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ory of desistance/reintegration/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609480" y="2514600"/>
            <a:ext cx="38102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IE" sz="3000" spc="-1" strike="noStrike">
                <a:solidFill>
                  <a:srgbClr val="1d4e6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928960" cy="2811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7"/>
          <p:cNvSpPr/>
          <p:nvPr/>
        </p:nvSpPr>
        <p:spPr>
          <a:xfrm>
            <a:off x="112680" y="1447920"/>
            <a:ext cx="5526000" cy="58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ly under-developed focus on pris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riminal justice and social policies separated from prison poli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ly increasing prison population and number of committal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al expansionism (new prison places) B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additional resources to meet increasing nee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crow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afe pris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714240" y="150012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BACKGROUND</a:t>
            </a: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42960" y="2500200"/>
            <a:ext cx="778680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Some prisons with 80% of prisoners addicted to drugs/alcoho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High prevalence of mental health difficulties (27% of sentenced men and 60% of sentenced women with mental illness) and dual diagnosi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Homelessnes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Up to 25% ‘on protection’ every da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80% on sentences less than 12 months (over 60% under 6 month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50% re-committal rate within 4 years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7924680" y="6324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4732CD-6BA8-40AE-BA92-C21A0F7E5DEF}" type="slidenum">
              <a:rPr b="0" lang="en-GB" sz="1200" spc="-1" strike="noStrike">
                <a:solidFill>
                  <a:srgbClr val="693f4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642960" y="13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FIN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685800" y="2205000"/>
            <a:ext cx="7315200" cy="42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ome progressive ‘pilot’ and more permanent initiativ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iversion project in Cloverhill Prison (Dubli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unity organisations providing homeless assistance on remand/statutory organisations on sent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creased provision of drug counselling in pris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ment of new initiatives (mentoring) and continuing success of existing programmes (The GATE/Linkag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ntegrated Sentence Management appears to be working well where introduc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Funding provided by the Irish Prison Service and the Probation Service increasing the capacity of community-based projec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Legislative and practical initiatives aiming to address the increase in prison population: fines; community service order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7924680" y="63244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B1978B-457F-404E-B3D5-EF4A3EAF1D7C}" type="slidenum">
              <a:rPr b="0" lang="en-GB" sz="1200" spc="-1" strike="noStrike">
                <a:solidFill>
                  <a:srgbClr val="693f4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642960" y="13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FIN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85800" y="2428920"/>
            <a:ext cx="73152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 system which struggles to engage with the vast majority of prison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Post-code lottery’ in relation to what is available in the prisons and outs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Little or no information provided to prisoners and/or their families regarding services available in custody or upon rel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Focus of resources on long-term and ‘high risk’ prisoners (ISM; Probation managing ‘risk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Resources not adequate to nee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Funding concerns re: longer term sustaina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642960" y="1357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alibri"/>
              </a:rPr>
              <a:t>FINDING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2362320"/>
            <a:ext cx="769608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Use of Temporary Release as a safety valve for overcrowded pris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hort notice of release and releases at weeke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mited linking with community support before rele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unication chaos’ leading to vital support being lost or not provid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ffects: most recently two cases of prisoners with mental health difficulties granted TR with no support reported in the press - one in Cork Prison and one in the Dóchas Centre in Dub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Lack of a statutory duty to co-operate can hinder any efforts made before release (homelessness an examp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Lack of more general awareness regarding the reality of prison li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85880" y="157176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693f46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2819520"/>
            <a:ext cx="7772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research@iprt.ie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oin us on Facebook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iprt.ie/facebook 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ollow us on Twitter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ww.twitter.com/iprt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ign up for our Ebulletin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mpaign with us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communications@iprt.ie</a:t>
            </a: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3f4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9T08:26:03Z</dcterms:created>
  <dc:creator>Rick Lines</dc:creator>
  <dc:description/>
  <dc:language>en-US</dc:language>
  <cp:lastModifiedBy>Danelle</cp:lastModifiedBy>
  <cp:lastPrinted>2009-04-22T19:24:48Z</cp:lastPrinted>
  <dcterms:modified xsi:type="dcterms:W3CDTF">2010-07-12T15:04:24Z</dcterms:modified>
  <cp:revision>338</cp:revision>
  <dc:subject/>
  <dc:title>PowerPoint Presentation</dc:title>
</cp:coreProperties>
</file>